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D3B-E87A-4868-AA49-45BCA9D0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AA9-24DB-450C-B0D1-15236DF8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23FB-3464-4A9F-94D6-41255828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D41-CA47-4495-A476-8CA264C8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759-1328-40CB-BE05-CD8F0511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578E-0D80-4C84-A475-7FB12C8F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E83-A118-4DBE-BB71-5ACD9E0A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0165-E86B-4E8B-A4BE-5FFBC867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979-9C86-4E38-836D-F1B6E174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B580-4944-4E01-9AD6-006C80FD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911-894F-4AE9-9DF0-932A6020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1B7-A55C-4004-9648-9FE1076E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DB65-856A-4899-B236-C57691A84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hyperlink" Target="http://content.thinkcentral.com/content/hsp/reading/storytown/na/gr1/se_9780153597732_/grade1/shell.html?grade=1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15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7, Day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and C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- Look for things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ast- Look for things that are differe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How are the Little Red Hen characters in “The Little Red Hen” and “Little Red Hen Gets Help” the sam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How are they differ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how to compare and contra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Make Tortill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ntent.thinkcentral.com/content/hsp/reading/storytown/na/gr1/se_9780153597732_/grade1/shell.html?grade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ntent.thinkcentral.com/content/hsp/reading/storytown/na/gr1/se_9780153597732_/grade1/shell.html?grade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bust 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</a:rPr>
              <a:t>assemble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- If you assemble something, you put all of its pieces toge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consume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- If you consume something, you completely use it 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enthusiastic</a:t>
            </a: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- If you are enthusiastic about something, you really like it and are excited about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! What is that behi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! What is that crea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! Something is coming 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t comes! It is so big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mind. It is just my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That dog is so big. My cat is so small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3808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s About a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gether- “Little Red Hen Gets Hel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- Remember exciting events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clamation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letters and end ma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ersonal words, such as I, my, me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urn and Talk about a special event with family or friends.  Ask  your partners question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Question of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reat do you like to eat for your birthday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like to eat______ because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What Am I Baking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874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o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30492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362320" y="914400"/>
            <a:ext cx="4419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ord Wal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4877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3000" y="0"/>
            <a:ext cx="1521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e/e and other known letter-sounds to spell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480" y="5791320"/>
            <a:ext cx="7315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*Transparency R13- Short vowel /e/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1219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1219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1219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20574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895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2895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2895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733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3733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3733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419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4419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4419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lling Wor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66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s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. t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5. 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6. 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2438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7.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8.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9. m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0.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our spelling words and high 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486400"/>
            <a:ext cx="807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57913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: Write spelling words with best handwri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igh Frequency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______ our _______for P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______to ______our sn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in ______grade, “ she 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0"/>
            <a:ext cx="304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1905120"/>
            <a:ext cx="52578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1295280"/>
            <a:ext cx="6705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day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 said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eat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 time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5257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tle Red Hen Gets Help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 36: “Yes!” said Ca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“I will!” said Fox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“Let me, too!” said Pi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 30: One day, Little Red 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t up. She was hung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ith fluency and express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8-10-15T03:41:22Z</dcterms:modified>
  <cp:revision>44</cp:revision>
  <dc:subject/>
  <dc:title>Slide 1</dc:title>
</cp:coreProperties>
</file>