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1508-F7CD-4153-9F13-6EB745B36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926C-56F7-463C-82E0-7C24212CC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205E-E8AF-484F-BCD8-D2DC8DCA1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4C1B-941F-40AC-928E-50C7B1E69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F3F9-18EB-46A7-82B5-43A878420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1E35-0F88-460C-A3CA-3FED66A3E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9538-7EA8-4F48-B3BA-0818AA04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8486-5BC5-4FD8-8AFD-6886F9B98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60AE-7075-4710-99E2-952445EA2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C933-1576-4DAD-BC88-FA9C2D34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6E78-C2F3-4F2C-8B38-669F02DE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8F43-1F68-46AD-A158-8E75BE5B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ED265-EA18-4FDF-BE75-306ED989CB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238880" cy="3962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5800" y="4876920"/>
            <a:ext cx="81532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ursd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ctober 16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esson 7 Day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set>
                                      <p:cBhvr>
                                        <p:cTn id="22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200400" y="2286000"/>
            <a:ext cx="2743200" cy="146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glad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914400" y="4952880"/>
            <a:ext cx="9144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g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971800" y="4876920"/>
            <a:ext cx="30492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724280" y="4952880"/>
            <a:ext cx="6858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629400" y="4114800"/>
            <a:ext cx="76212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676520" y="1066680"/>
            <a:ext cx="594360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flick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90720" y="3733920"/>
            <a:ext cx="7617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f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895480" y="3809880"/>
            <a:ext cx="304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343400" y="3809880"/>
            <a:ext cx="3049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i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715000" y="3505320"/>
            <a:ext cx="83808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k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80880" y="762120"/>
            <a:ext cx="83822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Let’s see if you can help me sound out some of the next word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6" dur="3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905120" y="2057400"/>
            <a:ext cx="5029200" cy="16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la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3124080" y="1143000"/>
            <a:ext cx="34290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lip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28800" y="914400"/>
            <a:ext cx="56386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fled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133720" y="1066680"/>
            <a:ext cx="51814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flip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2362320" y="2362320"/>
            <a:ext cx="4800600" cy="139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e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1752480" y="1905120"/>
            <a:ext cx="5639040" cy="185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is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2209680" y="2514600"/>
            <a:ext cx="51055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lum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04920" y="1752480"/>
            <a:ext cx="86868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QUESTION OF THE DA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2514600" y="1828800"/>
            <a:ext cx="4343400" cy="192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glas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2057400" y="1905120"/>
            <a:ext cx="5486400" cy="185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las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2590920" y="2209680"/>
            <a:ext cx="4038480" cy="15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lack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914400" y="2860560"/>
            <a:ext cx="1905120" cy="8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ap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886200" y="2819520"/>
            <a:ext cx="1905120" cy="89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an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477120" y="2819520"/>
            <a:ext cx="2209680" cy="89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end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762120"/>
            <a:ext cx="83059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Objecti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To recognize initial blends with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To read words with initial blends with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762120" y="914400"/>
            <a:ext cx="74674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ff00"/>
                </a:solidFill>
                <a:latin typeface="Arial"/>
              </a:rPr>
              <a:t>Let’s add an l to these words to make a new blen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1295280" y="685800"/>
            <a:ext cx="6782040" cy="556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ap = clap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an = pla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end = blend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523880" y="457200"/>
            <a:ext cx="6248520" cy="601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ack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a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fa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ank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3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09480" y="838080"/>
            <a:ext cx="6248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66ff"/>
                </a:solidFill>
                <a:latin typeface="Arial"/>
              </a:rPr>
              <a:t>Let’s see what the words become when we add an l to make a new ble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" dur="3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523880" y="609480"/>
            <a:ext cx="6705720" cy="563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ack = black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ay = pla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fat = fla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ank = blank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33520" y="304920"/>
            <a:ext cx="8153280" cy="59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clas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plan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get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clas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pe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y all went to 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get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a ca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black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cat is called </a:t>
            </a: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Flip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class clap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y are </a:t>
            </a: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glad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hey have a ca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len and Jill want to 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pet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fli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6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9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2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5" dur="2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8" dur="2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1" dur="20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762120"/>
            <a:ext cx="7924680" cy="60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00"/>
                </a:solidFill>
                <a:latin typeface="Arial"/>
              </a:rPr>
              <a:t>What’s a special thing you like to do?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ff"/>
                </a:solidFill>
                <a:latin typeface="Arial"/>
              </a:rPr>
              <a:t>Why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A special thing I like to do is ______ because __________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609480" y="1447920"/>
            <a:ext cx="7620120" cy="23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PELLING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53352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Objective: To read and write high 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62120" y="304920"/>
            <a:ext cx="716256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T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C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0" dur="500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80880" y="1066680"/>
            <a:ext cx="3505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ay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638680" y="1295280"/>
            <a:ext cx="32767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aid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28600" y="5410080"/>
            <a:ext cx="33526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ime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04920" y="2895480"/>
            <a:ext cx="3124080" cy="82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first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562720" y="5410080"/>
            <a:ext cx="32763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was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638680" y="2895480"/>
            <a:ext cx="3200400" cy="82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at</a:t>
            </a:r>
            <a:endParaRPr b="0" lang="en-US" sz="18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457200"/>
            <a:ext cx="58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Objective: To read high 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200400"/>
            <a:ext cx="830556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EAD WITH EXPRESS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838080"/>
            <a:ext cx="56386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Objecti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To read with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To build fluency through rereading a 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0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519120" y="1752480"/>
            <a:ext cx="7710480" cy="20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ook at that bird high in the sky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762120" y="2438280"/>
            <a:ext cx="7772400" cy="312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ompare and Contras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762120"/>
            <a:ext cx="655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Objecti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To compare and contrast while listening to a 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8080" y="990720"/>
            <a:ext cx="7848720" cy="30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pples and orange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990720" y="380880"/>
            <a:ext cx="6933960" cy="59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99"/>
                </a:solidFill>
                <a:latin typeface="Arial"/>
              </a:rPr>
              <a:t>They are alike because they are fruit and roun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They are different because they are different color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9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4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914400" y="1600200"/>
            <a:ext cx="7620120" cy="20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ead Counting on the Woo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1" dur="250" autoRev="1" fill="hold"/>
                                        <p:tgtEl>
                                          <p:spTgt spid="1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165320" y="380880"/>
            <a:ext cx="7369200" cy="64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Arial"/>
              </a:rPr>
              <a:t>Something Speci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In every house on every str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Around and up and dow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There’s something special going on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In every house in tow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2760" y="874800"/>
            <a:ext cx="85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Objective: To appreciate the rhythm and rhyme of a po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2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2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0" y="2666880"/>
            <a:ext cx="9144000" cy="10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How are the birds and bugs different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8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0" y="2209680"/>
            <a:ext cx="9144000" cy="15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hat happens in the end of the book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85800" y="1752480"/>
            <a:ext cx="807732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obust Vocabular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457200"/>
            <a:ext cx="457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Objecti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To review robust vocabu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920" y="228600"/>
            <a:ext cx="8153280" cy="61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Assemble – If you assemble something, you put all of it’s pieces togeth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If I say something that can be assembled say “Assemble It!”.  If it can’t be assembled say noth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9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4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228600"/>
            <a:ext cx="807732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rial"/>
              </a:rPr>
              <a:t>A sandwi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rial"/>
              </a:rPr>
              <a:t>A picnic lun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rial"/>
              </a:rPr>
              <a:t>A teac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rial"/>
              </a:rPr>
              <a:t>An outfit to w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rial"/>
              </a:rPr>
              <a:t>A p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rial"/>
              </a:rPr>
              <a:t>A t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rial"/>
              </a:rPr>
              <a:t>A to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rial"/>
              </a:rPr>
              <a:t>A bu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1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6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1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6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1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6" dur="2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1" dur="2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6" dur="20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5800" y="685800"/>
            <a:ext cx="228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380880"/>
            <a:ext cx="7619760" cy="61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Arial"/>
              </a:rPr>
              <a:t>Consume – If you consume something, you completely use it u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f I say something that can be consumed say “Eat It!”.  If it can’t be consumed say nothing at al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8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228600"/>
            <a:ext cx="358128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A 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A hot d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An ap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Ice cre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A penc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Some rais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A shi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A c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33520" y="0"/>
            <a:ext cx="6933960" cy="68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ff"/>
                </a:solidFill>
                <a:latin typeface="Arial"/>
              </a:rPr>
              <a:t>Enthusiastic – If you are enthusiastic about something, you really like it and are excited about 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If I say something you could get enthusiastic about then clap.  If you would not get enthusiastic about it do nothing at al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4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9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33520" y="762120"/>
            <a:ext cx="716256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issing snack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etting a pre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orgetting your lu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mptying the tra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oing to a pa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leaning your 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laying in the p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oing on a pic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6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1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6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1" dur="2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6" dur="2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1" dur="2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6" dur="2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1" dur="2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990720" y="1905120"/>
            <a:ext cx="7086600" cy="185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XCLAMATION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457200"/>
            <a:ext cx="3581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Objecti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To identify exclam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To write exclam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09480" y="1523880"/>
            <a:ext cx="807732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RHYMING WORD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1000" autoRev="1" fill="hold"/>
                                        <p:tgtEl>
                                          <p:spTgt spid="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38080" y="990720"/>
            <a:ext cx="73152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ff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Do you like do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That dog is lit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My dog is so fa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I see a m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Did you make a m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What a big m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Objecti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To identify exclam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To write exclam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4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6" dur="2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8" dur="2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0" dur="2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2" dur="2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4" dur="2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1447920"/>
            <a:ext cx="708660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Arial"/>
              </a:rPr>
              <a:t>My dog is so fa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Arial"/>
              </a:rPr>
              <a:t>What a big mes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0" y="2286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Objecti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To identify exclam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To write exclam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0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2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762120" y="1752480"/>
            <a:ext cx="76197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Writing sentences about events in your liv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3808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Objecti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To generate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To select a focus when wr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To write complete, coherent sent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533520" y="0"/>
            <a:ext cx="7010280" cy="68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Sentences About Ev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The sentences tell about things I have don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They have words such as I, my, me, and w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Each sentence begins with a capital letter and ends with an end mar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97000"/>
            <a:ext cx="198108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Objecti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To generate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To select a focus when wr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To write complete, coherent sent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7" dur="2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9" dur="2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1" dur="2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3" dur="2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09480" y="914400"/>
            <a:ext cx="77724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ow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143000" y="3886200"/>
            <a:ext cx="65530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ow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533520" y="2057400"/>
            <a:ext cx="838188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ORD WALL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5335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Objective: To read high frequency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762120" y="2590920"/>
            <a:ext cx="8076960" cy="30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HONEME BLENDING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304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Objective: To blend phonemes into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16:21:01Z</dcterms:created>
  <dc:creator>Valued Gateway Client</dc:creator>
  <dc:description/>
  <dc:language>en-US</dc:language>
  <cp:lastModifiedBy>Valued Gateway Client</cp:lastModifiedBy>
  <dcterms:modified xsi:type="dcterms:W3CDTF">2008-10-16T03:13:15Z</dcterms:modified>
  <cp:revision>4</cp:revision>
  <dc:subject/>
  <dc:title>Slide 1</dc:title>
</cp:coreProperties>
</file>