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whoosh.wav" ContentType="audio/x-wav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498-C61A-4940-8DF2-941AB56A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313-185B-4A69-89DB-5B941309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3DD-855E-4921-8B4B-448FDDE3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4AC-DEE7-40C0-B6E7-F152BAD4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97F-2646-479A-842E-F2C8A15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6E8-4B0A-4592-A71B-D396676E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325F-DE3E-4425-82E5-79DA65D4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7B3-E1A9-488C-91ED-A4B92E69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F49-9B93-4FB8-9CAC-108D17B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729-2D41-4FCA-8D95-C908D52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306-5B72-4835-8084-950DB47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40C-FC6A-442D-920F-04DB7142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4EF-D929-4B2C-A69A-0AAAA2E00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ida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7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cl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f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fl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523880"/>
            <a:ext cx="2971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1600200"/>
            <a:ext cx="4419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begin with 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has almost the same meaning as build or assem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 means the same as gobble or sn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! What is that behi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! What is that cre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! Something is coming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t comes! It is so bi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mind. It is just my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That dog is so big. My cat is so smal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3808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About a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gether- “Little Red Hen Gets Hel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- Remember exciting events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s and end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ersonal words, such as I, my, me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 about a special event with family or friends.  Ask  your partners question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telling sentences can tell about events in one’s li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something special that belongs to you? Why is it spe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pecial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1523880"/>
            <a:ext cx="464832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d Aloud –             “Something Special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874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o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049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362320" y="914400"/>
            <a:ext cx="4419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ord W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4877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ba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l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pl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0066"/>
                </a:solidFill>
                <a:latin typeface="Century Gothic"/>
              </a:rPr>
              <a:t>Initial Blends with </a:t>
            </a:r>
            <a:r>
              <a:rPr b="0" i="1" lang="en-US" sz="8000" spc="-1" strike="noStrike">
                <a:solidFill>
                  <a:srgbClr val="660066"/>
                </a:solidFill>
                <a:latin typeface="Century Gothic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si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entury Gothic"/>
              </a:rPr>
              <a:t>sli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0-16T03:41:37Z</dcterms:modified>
  <cp:revision>49</cp:revision>
  <dc:subject/>
  <dc:title>Slide 1</dc:title>
</cp:coreProperties>
</file>