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6.jpeg" ContentType="image/jpeg"/>
  <Override PartName="/ppt/media/image8.png" ContentType="image/png"/>
  <Override PartName="/ppt/media/image7.gif" ContentType="image/gif"/>
  <Override PartName="/ppt/media/image9.jpeg" ContentType="image/jpeg"/>
  <Override PartName="/ppt/media/image10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F950-0042-4708-BAD1-9B68EFF62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3D55-2C6A-41F7-88AF-161345C8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7625-C777-4A9D-B80D-93B3C742F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AD57-E079-4C70-B8E8-1165C4E5B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0B99-B50E-4596-AB6C-54F76A93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0010-FEF8-465C-994D-B9808DE4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7F5E-4B5F-4921-806E-2317F927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C6D7-AF06-4D3F-B767-CF701699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DABE-9563-4575-BDEA-6D7DAF12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9C76-9435-44DD-B24B-40C85C00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FFE0-9377-46C4-83D0-23A092CF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8641-3D3D-489A-8554-131C4095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7061-43AF-42DC-A1F0-E876F0C27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file:///tmp/home/.config/libreoffice/4/user/gallery/MSj00746860000%5B1%5D.wav" TargetMode="External"/><Relationship Id="rId3" Type="http://schemas.microsoft.com/office/2007/relationships/media" Target="file:///tmp/home/.config/libreoffice/4/user/gallery/MSj00746860000%5B1%5D.wav" TargetMode="Externa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ctober 20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8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e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2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914400"/>
            <a:ext cx="6858000" cy="160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2895480"/>
            <a:ext cx="6933960" cy="1752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5105520"/>
            <a:ext cx="6858000" cy="1752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251460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464832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114300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Begin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525780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312408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Midd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480" y="1066320"/>
            <a:ext cx="746784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queak and Pepper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30492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47920" y="2787480"/>
            <a:ext cx="609588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au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t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776680" y="258840"/>
            <a:ext cx="359064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84160" y="339840"/>
            <a:ext cx="378468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pplaud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54880" y="214200"/>
            <a:ext cx="235728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applauded for someone, you clapped your hands to show you liked what they did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57200" y="2517840"/>
            <a:ext cx="2548080" cy="2450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54040" y="642960"/>
            <a:ext cx="642960" cy="642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7348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6"/>
                </p:tgtEl>
              </p:cMediaNode>
            </p:audio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26000" y="1593720"/>
            <a:ext cx="42321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f you are chatty, you really like to talk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6680" y="258840"/>
            <a:ext cx="359064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43120" y="268200"/>
            <a:ext cx="39196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hatt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2036880"/>
            <a:ext cx="4573440" cy="3033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00400" y="1785600"/>
            <a:ext cx="39114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you gather things, you bring them together in on place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89120" y="0"/>
            <a:ext cx="35910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51120" y="0"/>
            <a:ext cx="33829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gather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5840" y="2251080"/>
            <a:ext cx="4500360" cy="3376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447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nou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along the meadow where the cows grazed and the horses ran, there was an old stone w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t the farmers had moved away, the barn was abandone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1522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o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would you like to see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walk in the wood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 would like to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___________ in the wo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48720" y="0"/>
            <a:ext cx="1295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exclam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228600"/>
            <a:ext cx="579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Nou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ma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went to the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bank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boy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went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home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467480" y="152280"/>
            <a:ext cx="16765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nou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59080" y="0"/>
            <a:ext cx="4741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mmar from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152280"/>
            <a:ext cx="16765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ak in complete, coherent senten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98108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__________ went to the _____________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315200" y="152280"/>
            <a:ext cx="1828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questions are a kind of sentence that be used to find out inform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entence ask for inform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often begin with words lik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a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e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e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ow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begin with a capital letter and end with a question mark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a list of criteria for writing effective ques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questions are a kind of sentence that be used to find out inform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urn and Talk-    Ask one another questions that begin with question words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questions are a kind of sentence that be used to find out inform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95680" y="2133720"/>
            <a:ext cx="38102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Counting on the Wood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anks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38880" y="0"/>
            <a:ext cx="19051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57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 Ble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57400" y="3124080"/>
            <a:ext cx="49528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and generate the  sound of diagraph /th/ th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iagraph /th/ 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3809880" cy="4572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114800" y="914400"/>
            <a:ext cx="502920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 say a word that begins with /th/, you  hold up your thumb in front of your chest.  When I say a word that does not begin with /th/, put your thumb dow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 say a word that ends with /th/, you hold you your thumb in front of your chest.  When I say a word that does not end with /th/, put your thumb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 Diagraph S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55040" y="0"/>
            <a:ext cx="1488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and generate the  sound of diagraph /th/ th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23880" y="1600200"/>
            <a:ext cx="586764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145416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7760" y="1218960"/>
            <a:ext cx="99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th/ th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1219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4340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6708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3657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15200" y="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th/ th and other known letter-sounds to spell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05120" y="1143000"/>
            <a:ext cx="52578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Carey Dailey</cp:lastModifiedBy>
  <dcterms:modified xsi:type="dcterms:W3CDTF">2008-11-22T03:58:41Z</dcterms:modified>
  <cp:revision>56</cp:revision>
  <dc:subject/>
  <dc:title>Slide 1</dc:title>
</cp:coreProperties>
</file>