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353-B307-44CE-B2F9-2E42FCA8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85C-66EF-41D9-99A3-AFEB620E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A0F-8349-4663-ADB4-F539A02E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303-FAEE-4CDC-AF8C-05E65B3E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1CE-793A-48C0-9634-0D800B5D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FFA-A90A-429B-92C3-6366C492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274-7699-416E-BF4F-10B54245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711D-A6C6-42D0-81B9-1D085217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449-84CA-4B03-8355-071F2DCF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ECB-CC5A-42ED-857A-F9D0F61D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A9F-5259-46F3-A211-6D3E6798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B49-B4E3-451E-AC37-0FF698B6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AE1A-8DB4-4C81-8F68-AE02F63BF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71560" y="274680"/>
            <a:ext cx="7400880" cy="585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95480" y="533520"/>
            <a:ext cx="495324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Wednes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October 22</a:t>
            </a:r>
            <a:r>
              <a:rPr b="1" lang="en-US" sz="3000" spc="-1" strike="noStrike" baseline="30000">
                <a:solidFill>
                  <a:srgbClr val="ffffff"/>
                </a:solidFill>
                <a:latin typeface="Century Gothic"/>
              </a:rPr>
              <a:t>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Lesson 8, Day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/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Flowers Grow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438280"/>
            <a:ext cx="4114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152280"/>
            <a:ext cx="213336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v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s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049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7238880" y="152280"/>
            <a:ext cx="1676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68760" y="393840"/>
            <a:ext cx="3963960" cy="127620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4680" y="399600"/>
            <a:ext cx="41338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u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59680" y="1714680"/>
            <a:ext cx="288432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A duty is a job you have to do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2036880"/>
            <a:ext cx="6000840" cy="399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697360" y="2017800"/>
            <a:ext cx="30798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omic Sans MS"/>
              </a:rPr>
              <a:t>When you feel envy, you want something that someone else has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97120" y="303120"/>
            <a:ext cx="3963960" cy="127800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30680" y="276120"/>
            <a:ext cx="3697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nv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768320"/>
            <a:ext cx="530388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1905120"/>
            <a:ext cx="34164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You might resent someone if you feel that that person is being treated better, or more fairly, than you 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57200"/>
            <a:ext cx="5638680" cy="137160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85800"/>
            <a:ext cx="495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resen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73920" y="838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4271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81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boys went to the p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my mom run up that h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 went into the 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my dad go to the ba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28800" y="3809880"/>
          <a:ext cx="5181480" cy="17640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838080" y="5943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____________ went to the 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2286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 To identify and read nou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is my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w did that get the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entences ask for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often begin with words li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begin with a capital letter and end with a question ma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0"/>
            <a:ext cx="2133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98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at plant grows near your ho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ell how it looks, feels, and smel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_______ grows near my home.  It looks _______.  It smells _______.  It feels _______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457200"/>
            <a:ext cx="7391520" cy="9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entury Gothic"/>
              </a:rPr>
              <a:t>Question of the Day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entury Gothic"/>
              <a:ea typeface="Century Gothic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5791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ig Book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hymes 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ems-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mmy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380880"/>
            <a:ext cx="7010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National First Font"/>
              </a:rPr>
              <a:t>Read Alou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National First Font"/>
              <a:ea typeface="National First Fon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35600" y="1601640"/>
            <a:ext cx="3462120" cy="4523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57913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M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3880" y="380880"/>
            <a:ext cx="617220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Century Gothic"/>
              </a:rPr>
              <a:t>Word Wal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ffff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380880"/>
            <a:ext cx="114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 -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ccff"/>
                </a:solidFill>
                <a:latin typeface="Arial Black"/>
              </a:rPr>
              <a:t>Phonemic Awarenes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Phoneme Blendi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381560" cy="299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480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blend phonemes into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Arial Black"/>
              </a:rPr>
              <a:t>Build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1295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981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7432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505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4267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12952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12952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19810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9810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274320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27432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50532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5053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426708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4267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380880"/>
            <a:ext cx="18288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build and blend words with /th/ th and other known letter-s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Spelling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wi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g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2286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</a:rPr>
              <a:t>Detai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eak and Pepp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at art supplies did they find and u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ry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14600" y="3781440"/>
            <a:ext cx="3733920" cy="2212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05720" y="304920"/>
            <a:ext cx="228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3a3e0"/>
                </a:solidFill>
                <a:latin typeface="Arial"/>
              </a:rPr>
              <a:t>Objective:  To identify story 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01:17:33Z</dcterms:created>
  <dc:creator>Valued Gateway Client</dc:creator>
  <dc:description/>
  <dc:language>en-US</dc:language>
  <cp:lastModifiedBy>Valued Gateway Client</cp:lastModifiedBy>
  <dcterms:modified xsi:type="dcterms:W3CDTF">2008-10-21T23:48:31Z</dcterms:modified>
  <cp:revision>9</cp:revision>
  <dc:subject/>
  <dc:title>Slide 1</dc:title>
</cp:coreProperties>
</file>