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98E0A-B90F-4AC6-9EC3-488378F8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48B5C-5758-447B-AA72-17902165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F6D50-8E21-413E-9A06-E1033341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4FE92-3D44-43DB-9265-B73D704A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3B9E-8DD7-420F-B812-B617A8ED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83DB-167E-4DA5-B992-3056EA5B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DA50-ABA0-44AF-BEB9-B126D325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298F-0FDB-4B6F-8308-47961274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3460-2506-483D-9225-FBEBE525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9F52-E172-4F2E-A644-1AD9A346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F1FD-FD74-433E-AE65-2AA85B71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DC089-2341-4748-AD8D-ADE871CA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6E16-EC5F-4B81-BE42-DC18F6EC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BF5B-179E-4813-8ECE-D0BA57E2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8E7A-A5FD-42A5-BA74-A50F47BA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A6F4-7A77-4DF6-8930-EABD5055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FD7E-7DD0-4B6E-B381-DF9B1DDD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BC01C-40DD-45AE-890E-9C6D5BA0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5202E-A779-49E5-9D6D-41F1C1D6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3F974-80AC-41A6-8F50-32FEB0EA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56909-085E-4458-8F9F-07BE71E4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57A7B-7E39-458C-B278-6741B6DA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98392-2F82-40E7-95E8-3E949269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DEC29-0563-448C-84AE-803955E4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0308-5CDA-4AF1-AAC4-F290FB1E04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E102-AE37-4FF5-9C5C-D5EF460650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648320" cy="2757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71600" y="4952880"/>
            <a:ext cx="6324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Garamond"/>
              </a:rPr>
              <a:t>Thursday October 23</a:t>
            </a:r>
            <a:r>
              <a:rPr b="0" lang="en-US" sz="4800" spc="-1" strike="noStrike" baseline="30000">
                <a:solidFill>
                  <a:srgbClr val="ffcc00"/>
                </a:solidFill>
                <a:latin typeface="Garamond"/>
              </a:rPr>
              <a:t>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Garamond"/>
              </a:rPr>
              <a:t>Lesson 8 Day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2666880"/>
            <a:ext cx="8610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ital Blends with 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380880"/>
            <a:ext cx="685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Objectiv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To recognize initial blends with 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To read words with initial blends with 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666880" y="762120"/>
            <a:ext cx="396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a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438280" y="518148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i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895480" y="2514600"/>
            <a:ext cx="3429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28600"/>
            <a:ext cx="8686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Garamond"/>
              </a:rPr>
              <a:t>Let’s see what happens when we add an s to the beginning of each wor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066680" y="685800"/>
            <a:ext cx="7315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ap = sna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5181480"/>
            <a:ext cx="8229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ick = sti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2743200"/>
            <a:ext cx="7772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n = sp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228600"/>
            <a:ext cx="8686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Garamond"/>
              </a:rPr>
              <a:t>Let’s see what happens when we add an s to the beginning of each wor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8080" y="0"/>
            <a:ext cx="7467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p = sli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696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p = sto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5410080"/>
            <a:ext cx="7620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ll = smal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3657600"/>
            <a:ext cx="7772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ack = sta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65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tan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and Slim got a new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l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y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lid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down a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mall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hil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n they sped down a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lick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il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top!”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said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ta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led slid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 a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top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is </a:t>
            </a: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sled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is fast!” said Sli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29200" y="0"/>
            <a:ext cx="41148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Garamond"/>
              </a:rPr>
              <a:t>Objective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Garamond"/>
              </a:rPr>
              <a:t>To use /th/ and other known letter-sounds to spell and write word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480" y="838080"/>
            <a:ext cx="7925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UILD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0481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828800"/>
            <a:ext cx="8076960" cy="64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th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p     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a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    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path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h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      a       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t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00ff00"/>
                </a:solidFill>
                <a:latin typeface="Garamond"/>
              </a:rPr>
              <a:t>that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Garamond"/>
              </a:rPr>
              <a:t>  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2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68580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676520"/>
            <a:ext cx="3124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28600" y="2590920"/>
            <a:ext cx="2819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8600" y="3581280"/>
            <a:ext cx="2743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i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4572000"/>
            <a:ext cx="2590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600" y="5638680"/>
            <a:ext cx="2666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5880" y="160020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400800" y="2590920"/>
            <a:ext cx="2362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629400" y="571500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477120" y="3581280"/>
            <a:ext cx="2209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ai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629400" y="4572000"/>
            <a:ext cx="2057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a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286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Objective: To spell and write known high frequency wo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609480"/>
            <a:ext cx="8229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IGH FREQUENCY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3105000"/>
            <a:ext cx="2819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on'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86200" y="3105000"/>
            <a:ext cx="2133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629400" y="3105000"/>
            <a:ext cx="2514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449568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r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705720" y="4419720"/>
            <a:ext cx="2438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ew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09880" y="4495680"/>
            <a:ext cx="198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ay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05320" y="579132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at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286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Objective: To read high frequency w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791320" y="0"/>
            <a:ext cx="33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Objective: To listen attentively and respond appropriately to oral communication; to share prior knowled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1600200"/>
            <a:ext cx="8534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971800"/>
            <a:ext cx="83818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You know a seed grows.  What is something else that grow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A ____________ starts as a______and grows into a ______________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33520" y="304920"/>
            <a:ext cx="8381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IGH FREQUENCY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52280" y="2209680"/>
            <a:ext cx="8991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"I don't like that job," says Beth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843200" y="3105000"/>
            <a:ext cx="5457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eff is the line leader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3962520"/>
            <a:ext cx="9144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"You can water the plant," said Mr. Hall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619280" y="5029200"/>
            <a:ext cx="5905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x has a new job, too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433520" y="6095880"/>
            <a:ext cx="6276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th likes her job at last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533520"/>
            <a:ext cx="891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380880"/>
            <a:ext cx="830556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Garamond"/>
              </a:rPr>
              <a:t>Concepts of Prin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Garamond"/>
              </a:rPr>
              <a:t>The words below a picture tells about what is in a pictur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Garamond"/>
              </a:rPr>
              <a:t>These words are called a cap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5627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14600" y="59436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alloween O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086600" cy="3657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600200" y="5638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Cupcake Spi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6933960" cy="41907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057400" y="5715000"/>
            <a:ext cx="495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A Mean Old Wi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562720" cy="4038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752480" y="5943600"/>
            <a:ext cx="56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cary jack-o-lanter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066680" y="838080"/>
            <a:ext cx="7391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tail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97180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Details are bits of information that tell more about something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30520" y="228600"/>
            <a:ext cx="56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Objective: To recognize details while listening to a sto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380880"/>
            <a:ext cx="82296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Garamond"/>
              </a:rPr>
              <a:t>Tell me some details that you remember about the plant in </a:t>
            </a:r>
            <a:r>
              <a:rPr b="1" lang="en-US" sz="8000" spc="-1" strike="noStrike" u="sng">
                <a:solidFill>
                  <a:srgbClr val="00ff00"/>
                </a:solidFill>
                <a:uFillTx/>
                <a:latin typeface="Garamond"/>
              </a:rPr>
              <a:t>Beth’s Job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533520" y="380880"/>
            <a:ext cx="8305560" cy="337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unting on the Woo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5562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3520" y="914400"/>
            <a:ext cx="556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Garamond"/>
              </a:rPr>
              <a:t>What kinds of things does the author coun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3657600"/>
            <a:ext cx="533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aramond"/>
              </a:rPr>
              <a:t>things found in the woods, birds, bugs, n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705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114300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Garamond"/>
              </a:rPr>
              <a:t>How do trees help us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48006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Garamond"/>
              </a:rPr>
              <a:t>They clean the ai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785520" y="320040"/>
            <a:ext cx="7419600" cy="5175360"/>
            <a:chOff x="785520" y="320040"/>
            <a:chExt cx="7419600" cy="5175360"/>
          </a:xfrm>
        </p:grpSpPr>
        <p:sp>
          <p:nvSpPr>
            <p:cNvPr id="191" name="_s59404"/>
            <p:cNvSpPr/>
            <p:nvPr/>
          </p:nvSpPr>
          <p:spPr>
            <a:xfrm flipH="1">
              <a:off x="2709000" y="3900960"/>
              <a:ext cx="889560" cy="39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_s59403"/>
            <p:cNvSpPr/>
            <p:nvPr/>
          </p:nvSpPr>
          <p:spPr>
            <a:xfrm>
              <a:off x="785520" y="3903120"/>
              <a:ext cx="2062800" cy="1592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Garamond"/>
                </a:rPr>
                <a:t>Live in the mos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59402"/>
            <p:cNvSpPr/>
            <p:nvPr/>
          </p:nvSpPr>
          <p:spPr>
            <a:xfrm>
              <a:off x="5387760" y="3903120"/>
              <a:ext cx="893160" cy="39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59401"/>
            <p:cNvSpPr/>
            <p:nvPr/>
          </p:nvSpPr>
          <p:spPr>
            <a:xfrm>
              <a:off x="6142320" y="3900960"/>
              <a:ext cx="2062800" cy="1592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Garamond"/>
                </a:rPr>
                <a:t>One has pincher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_s59400"/>
            <p:cNvSpPr/>
            <p:nvPr/>
          </p:nvSpPr>
          <p:spPr>
            <a:xfrm flipV="1">
              <a:off x="4495320" y="1911960"/>
              <a:ext cx="0" cy="795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59399"/>
            <p:cNvSpPr/>
            <p:nvPr/>
          </p:nvSpPr>
          <p:spPr>
            <a:xfrm>
              <a:off x="3463920" y="320040"/>
              <a:ext cx="2062800" cy="1592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Garamond"/>
                </a:rPr>
                <a:t>Hard shell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59398"/>
            <p:cNvSpPr/>
            <p:nvPr/>
          </p:nvSpPr>
          <p:spPr>
            <a:xfrm>
              <a:off x="3463920" y="2708640"/>
              <a:ext cx="2062800" cy="1592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Garamond"/>
                </a:rPr>
                <a:t>Three bugs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553080" y="3049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aramond"/>
              </a:rPr>
              <a:t>Objective: To review robust vocabulary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480" y="2286000"/>
            <a:ext cx="80773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bust Vocabula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04920" y="1752480"/>
            <a:ext cx="838188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uty - a job you have to do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3000" y="304920"/>
            <a:ext cx="7620120" cy="10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Garamond"/>
              </a:rPr>
              <a:t>I will say some things people do.  </a:t>
            </a:r>
            <a:r>
              <a:rPr b="1" i="1" lang="en-US" sz="6000" spc="-1" strike="noStrike">
                <a:solidFill>
                  <a:srgbClr val="00ff00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00ff00"/>
                </a:solidFill>
                <a:latin typeface="Garamond"/>
              </a:rPr>
              <a:t>If you think it is a duty, or a job, raise your hand.  If it is not a duty then do nothing at all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7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304920"/>
            <a:ext cx="6219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ating ice crea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880" y="1447920"/>
            <a:ext cx="6415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utting away toy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0880" y="2438280"/>
            <a:ext cx="6477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nging a so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600" y="5867280"/>
            <a:ext cx="7039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ashing the window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4876920"/>
            <a:ext cx="6319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weeping a roo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880" y="3733920"/>
            <a:ext cx="6172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iding a bik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685800"/>
            <a:ext cx="7772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nv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28600" y="3886200"/>
            <a:ext cx="8686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anting something someone else ha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685800"/>
            <a:ext cx="7924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Listen to the words I am going to say.  Nod your head if you would feel envy if someone had these thing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8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04920" y="0"/>
            <a:ext cx="4952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new bicycl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28600" y="68580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broken to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600" y="1523880"/>
            <a:ext cx="6319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trip to the zo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28600" y="2362320"/>
            <a:ext cx="6272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broken penci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28600" y="3124080"/>
            <a:ext cx="6791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 old pair of sock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28600" y="4114800"/>
            <a:ext cx="647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shiny red appl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28600" y="4800600"/>
            <a:ext cx="5334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new to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5410080"/>
            <a:ext cx="65865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day at the beac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85800" y="838080"/>
            <a:ext cx="7391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sen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358128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You might resent someone if you feel that that person is being treated better, or more fairly, than you ar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933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304920"/>
            <a:ext cx="67057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Garamond"/>
              </a:rPr>
              <a:t>Imagine that someone did the following things.  If you would resent that person for doing the activity clap once.  If you would not resent that person do nothing at al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04920" y="6019920"/>
            <a:ext cx="6762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ok the last cooki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0"/>
            <a:ext cx="7238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ad with you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0880" y="838080"/>
            <a:ext cx="7162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ed you for hel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0880" y="1676520"/>
            <a:ext cx="7239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ft you out of a gam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5181480"/>
            <a:ext cx="655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hared a to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514600"/>
            <a:ext cx="6891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ok your place in li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4343400"/>
            <a:ext cx="6457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sked you to pl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3429000"/>
            <a:ext cx="6281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ave you a sna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762120" y="1676520"/>
            <a:ext cx="74674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u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304920"/>
            <a:ext cx="701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Objective: To identify nouns that name people or pla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To use nouns that name people or places in senten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685800"/>
            <a:ext cx="8001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Garamond"/>
              </a:rPr>
              <a:t>Nouns are a person, place, or thing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5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152280"/>
            <a:ext cx="7924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y dad went to a farm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23920" y="1447920"/>
            <a:ext cx="6896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y mom jogged to the mall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981080" y="2743200"/>
            <a:ext cx="5562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d went home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395440" y="3809880"/>
            <a:ext cx="4353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th is at school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715000" y="228600"/>
            <a:ext cx="327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Objective: To select a focus when wri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To write complete, coherent ques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2133720"/>
            <a:ext cx="72388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09480" y="838080"/>
            <a:ext cx="82296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00"/>
                </a:solidFill>
                <a:latin typeface="Garamond"/>
              </a:rPr>
              <a:t>Quest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The sentences ask for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They often begin with words like who, what, when, where, why, or h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They begin with a capital letter and end with a question ma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62120" y="762120"/>
            <a:ext cx="7619760" cy="29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hym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562720" y="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Objective: To appreciate the rhythm and rhyme of a poem; to recite a contemporary po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371600"/>
            <a:ext cx="784836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There’s Something About 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There’s something about me That I’m know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There’s something about m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That isn’t show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I’m growing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438280" y="762120"/>
            <a:ext cx="46483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now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how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ow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09480" y="304920"/>
            <a:ext cx="7925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066680"/>
            <a:ext cx="81536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on’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a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478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Objective – to read high frequency wo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2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600" y="152280"/>
            <a:ext cx="8686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oneme blend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6002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    e    s    t - b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286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   n   a   p -sn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895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  o  th - mo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3657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  ur  s  t - fir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5720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  a  th - p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54864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  l  e  p - slee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1600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  l  e  d - sl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209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  p  e  n  t - sp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288756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  w  e  t - sw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8380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Objective: To blend phonemes into recognizable w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7:58:45Z</dcterms:created>
  <dc:creator>Valued Gateway Client</dc:creator>
  <dc:description/>
  <dc:language>en-US</dc:language>
  <cp:lastModifiedBy>Valued Gateway Client</cp:lastModifiedBy>
  <dcterms:modified xsi:type="dcterms:W3CDTF">2008-10-23T01:29:22Z</dcterms:modified>
  <cp:revision>8</cp:revision>
  <dc:subject/>
  <dc:title>Slide 1</dc:title>
</cp:coreProperties>
</file>