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CC4-8701-4974-AD22-914A0F8A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B7C-8A87-4342-8488-CAEA349D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563-0A4E-4155-9D64-7851AFCA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FCA-D2E7-473F-8C46-1D7B6529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D24-7998-4572-911D-32487C16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3ED-10A7-440B-9677-9C7F4A3C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BF02-649C-40F5-B409-0484192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974-FDE4-4D50-8A98-C7DD4042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DD9-B822-477D-8F48-8232C1B9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231-FA94-4838-B89B-64A0FE3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908-1A64-44AC-926C-4FF04173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2841-3F3F-4FC7-85EB-86BC922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2C7-034F-4A7A-A5F8-77AA1A2D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275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4724280"/>
            <a:ext cx="6324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Frida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Garamond"/>
              </a:rPr>
              <a:t>Lesson 8 Day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920" y="2666880"/>
            <a:ext cx="8610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ital Blends with 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8088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recognize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Garamond"/>
              </a:rPr>
              <a:t>To form words with initial blends with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114800" y="0"/>
            <a:ext cx="10857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a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"/>
            <a:ext cx="86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Garamond"/>
              </a:rPr>
              <a:t>Let’s see what happens when we add an s to the beginning of each wo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228600"/>
            <a:ext cx="861084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ed = s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in = s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kid = sk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ck = s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nap = sn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ap = s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ots =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ips = s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tick =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85800"/>
            <a:ext cx="8305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676520"/>
            <a:ext cx="3124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2590920"/>
            <a:ext cx="2819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3581280"/>
            <a:ext cx="2743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4572000"/>
            <a:ext cx="2590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28600" y="5638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588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00800" y="2590920"/>
            <a:ext cx="2362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29400" y="57150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358128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i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29400" y="4572000"/>
            <a:ext cx="2057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a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533520"/>
            <a:ext cx="8686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522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209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066680"/>
            <a:ext cx="84582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4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tail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9718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Garamond"/>
              </a:rPr>
              <a:t>Details are bits of information that tell more about someth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30520" y="228600"/>
            <a:ext cx="56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recognize details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8080"/>
            <a:ext cx="8686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83059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la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a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9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152280"/>
            <a:ext cx="8839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f someone tried to gather all the toys, would you resent that? 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When might someone be applauded for doing his or her duty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Would you envy someone who was chatty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1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1676520"/>
            <a:ext cx="74674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u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3049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Objective: To identify nouns that name people or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Garamond"/>
              </a:rPr>
              <a:t>To use nouns that name people or places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914400"/>
            <a:ext cx="8153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6858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Garamond"/>
              </a:rPr>
              <a:t>Nouns are a person, place, or thing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5820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t’s see if we can find the nouns in the following sent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girl sat on the w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The man ran to the cam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Arial"/>
              </a:rPr>
              <a:t>Jog to the pond with my mo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15000" y="228600"/>
            <a:ext cx="32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: To select a focus when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To write complete, coherent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2133720"/>
            <a:ext cx="72388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838080"/>
            <a:ext cx="82296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aramond"/>
              </a:rPr>
              <a:t>Ques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 sentences ask for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often begin with words like who, what, when, where, why, or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aramond"/>
              </a:rPr>
              <a:t>They begin with a capital letter and end with a ques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53416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What can you do now that you could not do when you were small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Now that I am bigger, I can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666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Today we are going to reread the poem “I’m Growing.” I will read it on the first time.  On the second time I want us all to choral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a poem for enjoyment and information; to respond to a poem through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84836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That I’m kn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ere’s something about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That isn’t show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Garamond"/>
              </a:rPr>
              <a:t>I’m grow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0"/>
            <a:ext cx="7925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685800"/>
            <a:ext cx="8153640" cy="64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n’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78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aramond"/>
              </a:rPr>
              <a:t>Objective –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2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Phoneme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9900ff"/>
                </a:solidFill>
                <a:latin typeface="Arial"/>
              </a:rPr>
              <a:t>Blending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14400"/>
            <a:ext cx="8534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am going to say some words very slowly.  I will say all the sounds I hear and then I will put them together to make a word. I will do the first one and then you will join me on the second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6104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l/  = s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e/ /d/ = s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i/ /p/ = sk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i/ /n/ = s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a/ /k/ =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e/ /k/ =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n/ /a/ /p/ =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w/ /e/ /l/ = s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t/ /e/ /p/ =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k/ /a/ /t/ = s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l/ /i/ /p/ =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/s/ /p/ /o/ /t/ =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7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2:33:26Z</dcterms:created>
  <dc:creator>Valued Gateway Client</dc:creator>
  <dc:description/>
  <dc:language>en-US</dc:language>
  <cp:lastModifiedBy>Valued Gateway Client</cp:lastModifiedBy>
  <dcterms:modified xsi:type="dcterms:W3CDTF">2009-10-21T02:33:40Z</dcterms:modified>
  <cp:revision>1</cp:revision>
  <dc:subject/>
  <dc:title>Slide 1</dc:title>
</cp:coreProperties>
</file>