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CEF-3880-47E4-8C69-A0816C50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821-30E3-4235-BA95-D56F6AFD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4F5-0FCE-46E5-A665-FF1C9F57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82C-C117-44A1-BE3C-4D87ADE9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5C1-FC6A-4EF4-8431-CF8E717F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B2D-4036-41EE-AE85-AEF3B579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404-337B-4D1A-86FA-D15C3D06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92B-B24A-475D-9ED9-48E0F931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FF5-7D54-42C9-BB97-F48C14BE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A17-EB68-4FD9-AEE2-C45AE6AE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999-02C2-45B7-8837-CBFF7F2F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315-7FB4-4887-9BFD-8E809E82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21D-AE5A-41EF-A679-7119A8E1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27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9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ose Garden Is It?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2787480"/>
            <a:ext cx="609588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i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1" lang="en-US" sz="3800" spc="-1" strike="noStrike">
                <a:solidFill>
                  <a:srgbClr val="bbe0e3"/>
                </a:solidFill>
                <a:latin typeface="Comic Sans MS"/>
              </a:rPr>
              <a:t>clai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something, you say it is you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4040" y="1714680"/>
            <a:ext cx="330048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ying that you dine is a fancy way of talking about ea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478620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erson who groans makes a deep sound that shows unhapp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oan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74800" y="198288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ads and the turtles, the squirrels and hares, the chipmunks and crickets – all claimed it was the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gobble each bud and each leaf and each vin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at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sit o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ock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o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fell i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u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bugs have you seen?  What were they doing when you saw the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e bug I saw was a ____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was _________ when I saw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8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2568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usually words, not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hings on the list are alike in some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often numbe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st important things are often first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ake a list of foods that you like.  Think of a title for your lis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Ugh! A Bu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6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short vowel /u/ 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ort Vowel /u/ 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914400"/>
            <a:ext cx="4648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begins with /u/, you  hold up your thumb in front of your chest.  When I say a word that does not begin with /u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with /u/ in the middle, you hold you your thumb in front of your chest.  When I say a word that does not have /u/ in the middle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114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7760" y="1218960"/>
            <a:ext cx="99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/ u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u/ u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685800"/>
            <a:ext cx="52578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3:59:55Z</dcterms:modified>
  <cp:revision>63</cp:revision>
  <dc:subject/>
  <dc:title>Slide 1</dc:title>
</cp:coreProperties>
</file>