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9E3-2704-481F-906C-8EC6CAB7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7A9-E2BF-4E12-A791-4E739741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309-4916-48F5-9CCF-70FE84CB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CEA-4D9B-477C-A836-209CC5FE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A47-DCDC-494A-8CD3-2F2C17EF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265-1F5A-43B8-BEA9-C8588165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B42-A4B4-4CF4-AFDD-70F7C69E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65A-50CA-43E5-96EA-0BBE05F8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AAD-420D-4397-9846-B25361A5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AC0-F795-4295-939E-76BF1F9F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2E6-6EA3-45F3-9BCD-BBE319C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91B-33BD-4F1C-8729-6454158F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2AC8-902B-4182-A35A-FAABD5974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9, Day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680" y="228600"/>
            <a:ext cx="914868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i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clai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 something, you say it is you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4040" y="1714680"/>
            <a:ext cx="330048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omeone ev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 of you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ay when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aying that you dine is a fancy way of talking about ea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97080"/>
            <a:ext cx="4786200" cy="318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ime do you usuall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at is your favorite thing to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d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t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0" y="1785600"/>
            <a:ext cx="39114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 who groans makes a deep sound that shows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oan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74800" y="1982880"/>
            <a:ext cx="417996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something that makes you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you ever heard a friend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  Why did he or sh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something that could happen in school that might make you want t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o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lants Can’t Jum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12501" t="29168" r="14063" b="18750"/>
          <a:stretch/>
        </p:blipFill>
        <p:spPr>
          <a:xfrm>
            <a:off x="1066680" y="2286000"/>
            <a:ext cx="7162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are the seasons of th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each season lik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 favorite season is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ecause it is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43440" y="0"/>
            <a:ext cx="160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2860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looked for the  ___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ke a list of plants that you think are interesting.  Think of a title for your lis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Autum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447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4800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3962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5562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5562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5562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ad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u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 on t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bus with 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u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plum so we can ea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u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naps with its mom, and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ts 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hit the ball with that 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lu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ine,” groaned the mole.  “It is full of furrow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ine,” squealed the vole.  “See my bumps and my burrow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ads and the turtles, the squirrels and hares, the chipmunks and crickets – all claimed it was thei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tell us more about something. 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about the garden, details tell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 are there, such as moles, vo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ds, and turtles.  Details also tell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ights, sounds, and smells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en.  The details give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garden, such as how the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aned and squealed when they spok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0-25T19:16:53Z</dcterms:modified>
  <cp:revision>66</cp:revision>
  <dc:subject/>
  <dc:title>Slide 1</dc:title>
</cp:coreProperties>
</file>