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9.jpeg" ContentType="image/jpeg"/>
  <Override PartName="/ppt/media/image11.jpeg" ContentType="image/jpeg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D7BC-29AB-4A72-8544-CBBF2020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FEE0-DB40-4E8A-AA32-557CB15C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056B-74EE-46A6-8EBA-91694C1B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F3D6-CB57-4CAD-8DDE-B0CFE01B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DE4A-6EC0-4017-B8E0-2D11C44A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B13E-206B-489A-AE04-D6E23A4E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0AE6-2C91-4CA6-BE81-333286BF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8F30-5747-4E7F-9CB6-3F14F850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CE86-278F-4E65-8180-9370A039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0189-7175-4A29-89F9-4B8A6B38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B0F9-AADB-4FF5-86F2-39C2CF03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355F-FD8A-480A-8AAF-59877419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DF32-6B5D-411C-A219-CBFBDA37C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ctober 15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sson 9, Day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Century Gothic"/>
              </a:rPr>
              <a:t>Plants can’t jump, but they don’t fu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Century Gothic"/>
              </a:rPr>
              <a:t>Plants can grow, just like u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ails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its of information that tell more about something, such as how it looks, sounds, smells, tastes, feels, or a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mine!” the bird twittered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mine!” squeaked the squash bu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mine,” buzzed the honeybe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3520" y="1981080"/>
            <a:ext cx="8229600" cy="177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mall Groups/ Stations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bust 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assif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triti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you classify something, you put it into a group with other things like i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362320" y="609480"/>
            <a:ext cx="4647960" cy="110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entury Gothic"/>
              </a:rPr>
              <a:t>Classify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438156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hing’s function is its use. The function of a hat is to cover your hea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90920" y="762120"/>
            <a:ext cx="4038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entury Gothic"/>
              </a:rPr>
              <a:t>Functio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3276720"/>
            <a:ext cx="2743200" cy="1893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1905120" cy="1825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14400" y="53341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unction of a hat is to cover your hea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51055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unction of a leaf is to make food for the plan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omething is nutritious, it is healthful to ea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057400" y="685800"/>
            <a:ext cx="4952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entury Gothic"/>
              </a:rPr>
              <a:t>nutritious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447920" y="3429000"/>
            <a:ext cx="3022560" cy="2146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952880" y="3429000"/>
            <a:ext cx="320040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If some bugs want food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they eat plan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Some plants eat bug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like moths and ant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nack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bug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d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t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m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123720" y="1980720"/>
            <a:ext cx="5334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like to eat the 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want a ________ as a p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_______ and I like to pl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Animal or Thing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cat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ham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fla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plum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fox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ba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wall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gum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des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hog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hen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cc0099"/>
                </a:solidFill>
                <a:latin typeface="Times New Roman"/>
              </a:rPr>
              <a:t>ru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riting L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sts are organized in a certain w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an have a title that tells what the list is abou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is often numbered, and every item on the list has to do with the main idea of the list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entury Gothic"/>
              </a:rPr>
              <a:t>Question of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hat do you like to do outside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different seas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In summer, I like to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In winter, I like to 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In fall, I like to 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Century Gothic"/>
              </a:rPr>
              <a:t>In spring, I like to _____________.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604800" cy="673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533520" cy="460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09480" y="5257800"/>
            <a:ext cx="544680" cy="614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33520" y="3429000"/>
            <a:ext cx="68580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st Boo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Think of books that you have r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recently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Turn and talk with your partn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about these boo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Make a list of the books that you read recently that you discussed with your partn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d Aloud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“</a:t>
            </a: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Autum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Leaves are floating softly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They make a carpet on the ground.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Then swish, the wind comes whistling b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entury Gothic"/>
              </a:rPr>
              <a:t>And sends them dancing to the sk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29200" y="4800600"/>
            <a:ext cx="1808280" cy="1535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09680" y="4724280"/>
            <a:ext cx="1676520" cy="1619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477120" y="685800"/>
            <a:ext cx="1552320" cy="1339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066680" y="838080"/>
            <a:ext cx="155268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Word W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entury Gothic"/>
              </a:rPr>
              <a:t>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entury Gothic"/>
              </a:rPr>
              <a:t>d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entury Gothic"/>
              </a:rPr>
              <a:t>l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entury Gothic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entury Gothic"/>
              </a:rPr>
              <a:t>g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Century Gothic"/>
              </a:rPr>
              <a:t>m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Century Gothic"/>
              </a:rPr>
              <a:t>Phonemic Awar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entury Gothic"/>
              </a:rPr>
              <a:t>Tell me all the sounds in the word by holding up a finger for each soun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657600" y="3733920"/>
            <a:ext cx="17017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1447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1447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1447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3200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3200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32004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4191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91120" y="4191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41911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Short Vowel /u/ 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Jen and Ted run in the su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hey run on the sand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hey run past she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Jen and Ted see a duc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hat sun is so hot!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hey run to the tent to re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u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u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t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don’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gh Frequency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entury Gothic"/>
              </a:rPr>
              <a:t>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entury Gothic"/>
              </a:rPr>
              <a:t>do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entury Gothic"/>
              </a:rPr>
              <a:t>f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entury Gothic"/>
              </a:rPr>
              <a:t>gr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entury Gothic"/>
              </a:rPr>
              <a:t>l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entury Gothic"/>
              </a:rPr>
              <a:t>m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02:57:57Z</dcterms:created>
  <dc:creator>Federated Group</dc:creator>
  <dc:description/>
  <dc:language>en-US</dc:language>
  <cp:lastModifiedBy>Carey Dailey</cp:lastModifiedBy>
  <dcterms:modified xsi:type="dcterms:W3CDTF">2008-11-22T04:01:07Z</dcterms:modified>
  <cp:revision>3</cp:revision>
  <dc:subject/>
  <dc:title>Question of the Day</dc:title>
</cp:coreProperties>
</file>