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6.wmf" ContentType="image/x-wmf"/>
  <Override PartName="/ppt/media/image7.png" ContentType="image/pn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53DA-3DC3-41C9-B1E5-CCC4976D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5BDF-8EB2-4F02-8ABB-E41FF90C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73F3-E72A-425D-8B18-B5C3FFCA9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208-B5C5-4B80-AE5B-E840D341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096-8491-4995-9928-3F993A37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F6FE-E602-464A-8E43-E5633E23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7B8-F77E-4785-A13D-0F32402C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A79F-B1A7-4CD7-A6F4-8912F3DB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946-B488-433D-8B1D-69FD96CC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4CDB-D356-451B-B488-5AD3C8EC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D219-768A-49A0-9E1E-3BC52AD6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569-C042-4B43-904C-9CD0667B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370F-F881-4014-9C5A-BDA0C6348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ctober 31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9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143000"/>
          <a:ext cx="8229600" cy="4921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Nut Fa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se Garden Is I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s Can’t J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Ugh! A Bug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im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a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t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743200" y="2133720"/>
            <a:ext cx="358128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1828440" y="159984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04920"/>
            <a:ext cx="274320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943600" y="137124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5880" y="228600"/>
            <a:ext cx="259092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362320" y="3886200"/>
            <a:ext cx="838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38862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4952880"/>
            <a:ext cx="2590920" cy="152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4648320"/>
            <a:ext cx="2438640" cy="1523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743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trit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43200" y="2133720"/>
            <a:ext cx="358128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828440" y="159984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04920"/>
            <a:ext cx="274320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943600" y="137124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228600"/>
            <a:ext cx="259092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362320" y="3886200"/>
            <a:ext cx="838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38862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4952880"/>
            <a:ext cx="2590920" cy="152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4648320"/>
            <a:ext cx="2438640" cy="1523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2743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67120" y="228240"/>
            <a:ext cx="1676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nouns that name animals or th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520" y="1218960"/>
            <a:ext cx="25905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n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1522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1219320"/>
            <a:ext cx="25905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315200" y="1522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questions are a kind of sentence that be used to find out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25680" y="0"/>
            <a:ext cx="459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s are usually words, not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hings on the list are alike in some 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s are often number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ost important things are often first on the l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contribute ideas to li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AndrewScript"/>
              </a:rPr>
              <a:t>Happy Halloween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4267080"/>
            <a:ext cx="77724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-360"/>
            <a:ext cx="2057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are some things you can dig for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 can dig for___________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638680" y="1828800"/>
            <a:ext cx="31212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95680" y="2133720"/>
            <a:ext cx="3810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I Dig, Dig, Di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ow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v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y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38163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 sound of short vowel /u/ u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itial Blends with /r/ 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828800"/>
            <a:ext cx="2286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038480" cy="3992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400800" y="1828800"/>
            <a:ext cx="2286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r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838080"/>
            <a:ext cx="2286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u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752480"/>
            <a:ext cx="2286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838080"/>
            <a:ext cx="2286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r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i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1752480"/>
            <a:ext cx="2286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ro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ra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ime to take 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pelling 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2T04:03:39Z</dcterms:modified>
  <cp:revision>66</cp:revision>
  <dc:subject/>
  <dc:title>Slide 1</dc:title>
</cp:coreProperties>
</file>