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C3B-7557-4128-B8CE-7EB1CC63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EBD-B1DB-4B43-9219-7409C9C1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C12-E757-4590-ACD8-B737D55A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B0D-E6AC-48FF-AD9D-354C5EF2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E5A-ED0B-4F41-ABAF-42A32DF4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1DA-5A36-42AF-A3A3-AB2D099C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C3B-D367-4276-9AA6-56A93B34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A2F-60CC-4D71-9B82-4223E034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F83-D5AE-4BE8-ABA3-FBA37540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0E7-BE9C-4514-BBB5-4E112471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7A9-1FD4-47AE-B1BE-A09E36D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891-1803-47FA-B574-405165E7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50A8-0429-4DD6-B84E-7AA30064D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128520" y="542880"/>
            <a:ext cx="94741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Objective: To review robust vocabulary through discussin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1"/>
          <a:stretch/>
        </p:blipFill>
        <p:spPr>
          <a:xfrm>
            <a:off x="-609480" y="212760"/>
            <a:ext cx="10125000" cy="1817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286000" y="213660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oth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28600"/>
            <a:ext cx="8458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530280" y="-49320"/>
            <a:ext cx="755316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5105520" y="190512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If you are bothered, you are upset or unhapp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4708.jpg"/>
          <p:cNvPicPr/>
          <p:nvPr/>
        </p:nvPicPr>
        <p:blipFill>
          <a:blip r:embed="rId2"/>
          <a:stretch/>
        </p:blipFill>
        <p:spPr>
          <a:xfrm>
            <a:off x="685800" y="182880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45720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little girl is bothering her br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04920" y="380880"/>
            <a:ext cx="853416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Choral Response – If you missed your favorite television program, would you be both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urn &amp; Talk – What are some things that have bothered you? What did you do make thing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On my signal you will turn and talk with your partner to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ny things like ________________ bother 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 try to _________________________ to make things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oral Response – Would you be bothered if it rained every day for a mo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1" descr=""/>
          <p:cNvPicPr/>
          <p:nvPr/>
        </p:nvPicPr>
        <p:blipFill>
          <a:blip r:embed="rId1"/>
          <a:stretch/>
        </p:blipFill>
        <p:spPr>
          <a:xfrm>
            <a:off x="146160" y="-225360"/>
            <a:ext cx="8394480" cy="1950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4648320" y="1676520"/>
            <a:ext cx="342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If you are at a distance from someone or something, you are far away, not cl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1552-0904-0722-5917.jpg"/>
          <p:cNvPicPr/>
          <p:nvPr/>
        </p:nvPicPr>
        <p:blipFill>
          <a:blip r:embed="rId2"/>
          <a:stretch/>
        </p:blipFill>
        <p:spPr>
          <a:xfrm>
            <a:off x="304920" y="175248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The boat is a long distance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52280" y="228600"/>
            <a:ext cx="883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oral response – If you saw a mountain from a distance, would it look big or small?  How would it look if you were near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urn &amp; Talk – If a friend lives a long distance from you, how could you talk to your frie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On my signal, turn and talk with your partner to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 could talk to my friend 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Choral response – If you walked from here to the gym, would that be a long distance for you?  Would it be a long distance for an 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1" descr=""/>
          <p:cNvPicPr/>
          <p:nvPr/>
        </p:nvPicPr>
        <p:blipFill>
          <a:blip r:embed="rId1"/>
          <a:stretch/>
        </p:blipFill>
        <p:spPr>
          <a:xfrm>
            <a:off x="298440" y="-231840"/>
            <a:ext cx="8626320" cy="2067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4952880" y="1981080"/>
            <a:ext cx="358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If you form something, you make it or shape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teenagers-young-people_~200195170-001.jpg"/>
          <p:cNvPicPr/>
          <p:nvPr/>
        </p:nvPicPr>
        <p:blipFill>
          <a:blip r:embed="rId2"/>
          <a:stretch/>
        </p:blipFill>
        <p:spPr>
          <a:xfrm>
            <a:off x="228600" y="1676520"/>
            <a:ext cx="380988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2860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he young people are forming a pyram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28600" y="30492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Turn &amp; Talk – If  a group of people like to read, they might form a book club.  What kind of club would you and your friends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b3d7"/>
                </a:solidFill>
                <a:latin typeface="Calibri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My friends and I would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5228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Calibri"/>
              </a:rPr>
              <a:t>Objective: To understand that a sentence is a group of words that tells a complete idea or thought; To understand that a sentence begins with a capital letter and ends with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304920" y="1066680"/>
            <a:ext cx="876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Remember that sentences have two parts – one part tells who it is about and the other part tells what they did.  Also remember that sentences begin with a capital letter and end with a period.  Let’s look at the following sentences and see if they are corr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andro can r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Emma likes to sk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ran likes to hop because it is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Objective: To understand that print conveys meaning; To understand that a label names someone or something; to develop a list of criteria for writing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378000" y="487440"/>
            <a:ext cx="8315280" cy="1981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0" y="2590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 label names someone or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 label is short.  It has one or two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ords in labels should be spell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Names in labels should begin with a capital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80880" y="5791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What are some foods we could draw and lab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228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Objective: To participate in a discussion;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146160" y="255600"/>
            <a:ext cx="87724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0880" y="53352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b4e3"/>
                </a:solidFill>
                <a:latin typeface="Calibri"/>
              </a:rPr>
              <a:t>What makes you hap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Calibri"/>
              </a:rPr>
              <a:t>On my signal you will turn and talk with your partner to complete the following 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b4e3"/>
                </a:solidFill>
                <a:latin typeface="Calibri"/>
              </a:rPr>
              <a:t>I am happy when 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Objective: To participate in singing a traditional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80880" y="762120"/>
            <a:ext cx="800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933c"/>
                </a:solidFill>
                <a:latin typeface="Calibri"/>
              </a:rPr>
              <a:t>Today we are going to sing a song I think all of you know.  We are going to be singing “If your happy and you know it .”  I will sing the song once and then I would like you to help me on the second time.  Make sure that you show me how this song makes you fe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04920" y="380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ad high –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46160" y="517680"/>
            <a:ext cx="8851680" cy="1652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80880" y="2057400"/>
            <a:ext cx="853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380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Objective: To recognize individual words in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2280" y="914400"/>
            <a:ext cx="8610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am going to read some sentences.  I want you to listen the first time.  When I read the sentence again I would like for you to clap once for each word you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The dog 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t is a ho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My pen is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Catch the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Matt sat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He hit the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tip my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Shut the do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j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have a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build and read spell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146160" y="347760"/>
            <a:ext cx="8851680" cy="1962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352680" y="175248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886200" y="17524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352680" y="26668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962520" y="2666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124080" y="34290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733920" y="34290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343400" y="34290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200400" y="426708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733920" y="4267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4267080" y="42670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3200400" y="5029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3657600" y="5029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4267080" y="50292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3048120" y="57150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3962520" y="57150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4572000" y="5715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04920" y="1522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We have been working on sentences this week.  Let’s practice reading thes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ook at my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have a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man ran one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can tap my 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am 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et’s go back and see if we can find the two parts of a sentence in thes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0492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2" descr=""/>
          <p:cNvPicPr/>
          <p:nvPr/>
        </p:nvPicPr>
        <p:blipFill>
          <a:blip r:embed="rId1"/>
          <a:stretch/>
        </p:blipFill>
        <p:spPr>
          <a:xfrm>
            <a:off x="85680" y="603360"/>
            <a:ext cx="8961480" cy="138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80880" y="1981080"/>
            <a:ext cx="8077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help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let’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n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77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77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9:07:49Z</dcterms:created>
  <dc:creator>lara colleen mangham</dc:creator>
  <dc:description/>
  <dc:language>en-US</dc:language>
  <cp:lastModifiedBy>lara colleen mangham</cp:lastModifiedBy>
  <dcterms:modified xsi:type="dcterms:W3CDTF">2009-08-24T03:14:53Z</dcterms:modified>
  <cp:revision>6</cp:revision>
  <dc:subject/>
  <dc:title>Slide 1</dc:title>
</cp:coreProperties>
</file>