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96A-68FE-4E4A-A044-678972BE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0E4-4CF2-4317-B36D-C5ECC035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000-5501-4E82-8AAC-BBDB76A3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D75-E528-45A8-A62E-F745A5C0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F25-484D-4A0A-A942-7155B329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0B2-5F01-4686-87E2-40D8F655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D27-8BD1-4F83-BFC7-F3C774F2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70F-5CB3-4479-88A4-55EA7138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BF9-2CCF-4A3B-82A0-A7EF84C6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301-1F2D-4A6D-9B92-2513C371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C45-ACDB-4900-AA0F-16D44C31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A71-21AA-47BA-80DD-2E53DE9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380E-DF52-4DE2-A7F9-5A0E941E7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85800"/>
            <a:ext cx="78487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gust 28, 2009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sson 1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 5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80880"/>
            <a:ext cx="8686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cap + s = c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an + s = p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map + s =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want + s = w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like + s = li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help + s = hel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78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685800"/>
            <a:ext cx="8839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447920"/>
            <a:ext cx="86868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1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380880"/>
            <a:ext cx="845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Frequency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914400"/>
            <a:ext cx="83059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8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7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bjective: To use prior knowledge and story information to mak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762120"/>
            <a:ext cx="83059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redi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88620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emember that we can use two things to help us make a prediction when we read or listen to a story.  One is information from the story, such as the title, the words, and the illustrations.  The second thing is what you know from your own personal exper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838080"/>
            <a:ext cx="8382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828800"/>
            <a:ext cx="8610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th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r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ppor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0"/>
            <a:ext cx="830592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ould your teacher b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upportiv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if you didn’t pay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tten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o the reading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you be </a:t>
            </a: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bothered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if you saw someone </a:t>
            </a: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perform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a d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f you looked at something from a very long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distance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, would you be able to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form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a good picture of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8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80880" y="457200"/>
            <a:ext cx="8381520" cy="5865480"/>
            <a:chOff x="380880" y="457200"/>
            <a:chExt cx="8381520" cy="5865480"/>
          </a:xfrm>
        </p:grpSpPr>
        <p:cxnSp>
          <p:nvCxnSpPr>
            <p:cNvPr id="71" name="_s17420"/>
            <p:cNvCxnSpPr>
              <a:stCxn id="72" idx="0"/>
              <a:endCxn id="73" idx="2"/>
            </p:cNvCxnSpPr>
            <p:nvPr/>
          </p:nvCxnSpPr>
          <p:spPr>
            <a:xfrm flipV="1" rot="16200000">
              <a:off x="5451480" y="1922400"/>
              <a:ext cx="1173600" cy="293436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7419"/>
            <p:cNvCxnSpPr>
              <a:stCxn id="75" idx="0"/>
              <a:endCxn id="73" idx="2"/>
            </p:cNvCxnSpPr>
            <p:nvPr/>
          </p:nvCxnSpPr>
          <p:spPr>
            <a:xfrm flipV="1">
              <a:off x="4571280" y="2802960"/>
              <a:ext cx="3240" cy="1173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7418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2518920" y="1923840"/>
              <a:ext cx="1173600" cy="293148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7414"/>
            <p:cNvSpPr/>
            <p:nvPr/>
          </p:nvSpPr>
          <p:spPr>
            <a:xfrm>
              <a:off x="3314520" y="45720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erfor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7415"/>
            <p:cNvSpPr/>
            <p:nvPr/>
          </p:nvSpPr>
          <p:spPr>
            <a:xfrm>
              <a:off x="380880" y="397656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o a d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7416"/>
            <p:cNvSpPr/>
            <p:nvPr/>
          </p:nvSpPr>
          <p:spPr>
            <a:xfrm>
              <a:off x="3314520" y="397656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ct in a pla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17"/>
            <p:cNvSpPr/>
            <p:nvPr/>
          </p:nvSpPr>
          <p:spPr>
            <a:xfrm>
              <a:off x="6248160" y="397656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ing a so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04920" y="228600"/>
            <a:ext cx="8609760" cy="6094080"/>
            <a:chOff x="304920" y="228600"/>
            <a:chExt cx="8609760" cy="6094080"/>
          </a:xfrm>
        </p:grpSpPr>
        <p:cxnSp>
          <p:nvCxnSpPr>
            <p:cNvPr id="79" name="_s18444"/>
            <p:cNvCxnSpPr>
              <a:stCxn id="80" idx="0"/>
              <a:endCxn id="81" idx="2"/>
            </p:cNvCxnSpPr>
            <p:nvPr/>
          </p:nvCxnSpPr>
          <p:spPr>
            <a:xfrm flipV="1" rot="16200000">
              <a:off x="5506560" y="1767960"/>
              <a:ext cx="1219320" cy="3013920"/>
            </a:xfrm>
            <a:prstGeom prst="bentConnector3">
              <a:avLst>
                <a:gd name="adj1" fmla="val 207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8443"/>
            <p:cNvCxnSpPr>
              <a:stCxn id="83" idx="0"/>
              <a:endCxn id="81" idx="2"/>
            </p:cNvCxnSpPr>
            <p:nvPr/>
          </p:nvCxnSpPr>
          <p:spPr>
            <a:xfrm flipV="1">
              <a:off x="4609440" y="2665440"/>
              <a:ext cx="3240" cy="121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8442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2494800" y="1769400"/>
              <a:ext cx="1219320" cy="3011400"/>
            </a:xfrm>
            <a:prstGeom prst="bentConnector3">
              <a:avLst>
                <a:gd name="adj1" fmla="val 207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18438"/>
            <p:cNvSpPr/>
            <p:nvPr/>
          </p:nvSpPr>
          <p:spPr>
            <a:xfrm>
              <a:off x="3318120" y="22860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other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8439"/>
            <p:cNvSpPr/>
            <p:nvPr/>
          </p:nvSpPr>
          <p:spPr>
            <a:xfrm>
              <a:off x="304920" y="388512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aving to ea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mething I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on’t li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8440"/>
            <p:cNvSpPr/>
            <p:nvPr/>
          </p:nvSpPr>
          <p:spPr>
            <a:xfrm>
              <a:off x="3318120" y="388512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 boring mov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8441"/>
            <p:cNvSpPr/>
            <p:nvPr/>
          </p:nvSpPr>
          <p:spPr>
            <a:xfrm>
              <a:off x="6331680" y="388512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oud noi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bjective: To understand that a sentence tells a complete thought or idea; to write complet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85800"/>
            <a:ext cx="88394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oday we are going to write some sentences about things we like to do. Make sure that your sentences are complete thought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 like to ride m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means the sentence is about you and the words </a:t>
            </a: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like to ride my bike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tell what you like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ake sure that you always start you sentence with a capital letter and end with a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04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generate ideas before writing; to write labels for illu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072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label names someone or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label is short. It has one or two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ords in labels should be spell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ames in labels should begin with a capital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Objective: To listen and to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990720"/>
            <a:ext cx="83818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0"/>
            <a:ext cx="83818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Do you like to d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On my signal, you will turn and talk with your partner to complete the following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 like to dance because ______________________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participate actively in a traditional song and dance; to recall and sing words to a song; to follow directions to perform a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38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We’re going to review a song that we introduced yesterday.  Remember that you are looking for words that have rhythm.  I will read it first and then you can read with me the second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52280"/>
            <a:ext cx="838224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put your right foot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put your right foot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put your right foot 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nd you shake it all ab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do the Hokey-Poke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nd you turn yourself a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That’s what it’s all abou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380880"/>
            <a:ext cx="8382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d Wall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143000"/>
            <a:ext cx="8001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e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cognize and identify individual words in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06668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Today we will work on sentences again.  I will tell you a sentence and you will tell me the number of words you hear.  I also want you to tell me the last word in the sent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0"/>
            <a:ext cx="86104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I am thir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Do you ride a b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hat is a tall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My dog has sp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he cat ju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Dad is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he crayon i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You are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I like to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cognize and read words with inflection 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838080"/>
            <a:ext cx="86104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Remember that s can be added to the end of a word to make a new word. The word we add the s to is called a roo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word hat is a root word.  If you add an s you make the word h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en I add s to the root word run, I make the word r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01:23Z</dcterms:created>
  <dc:creator>Valued Gateway Client</dc:creator>
  <dc:description/>
  <dc:language>en-US</dc:language>
  <cp:lastModifiedBy>Valued Gateway Client</cp:lastModifiedBy>
  <dcterms:modified xsi:type="dcterms:W3CDTF">2009-08-24T03:01:33Z</dcterms:modified>
  <cp:revision>1</cp:revision>
  <dc:subject/>
  <dc:title>Slide 1</dc:title>
</cp:coreProperties>
</file>