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1165-AA45-4A91-BA7E-620E89867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BF3E-15C3-44EC-8B08-361E34CB6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64D2-B9DA-451A-AFA9-F96352AF2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C5BE-6EB6-4155-BC02-2FEEB872B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CADC-DDB6-454E-B5D3-49519B0C9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D74B-0FA2-4529-98B7-DEECB8C52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0E0D-44FD-454C-B12A-D48EAA6B7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65CB-832D-4704-887A-AB0953788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054C-D770-477A-A19C-5B9F6FBB4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D95E-C2B7-405A-8C62-B77594C2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2AF8-7277-45A5-A6D8-3095386E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1506-AAE3-4F6E-9435-F60AAC85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018DE-2A73-4E21-92BA-7FB45A209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685800"/>
            <a:ext cx="7848720" cy="563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ugust 28, 2009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Lesson 1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ay 5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380880"/>
            <a:ext cx="868680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Arial"/>
              </a:rPr>
              <a:t>cap + s = c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Arial"/>
              </a:rPr>
              <a:t>pan + s = p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Arial"/>
              </a:rPr>
              <a:t>map + s = m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Arial"/>
              </a:rPr>
              <a:t>want + s = w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Arial"/>
              </a:rPr>
              <a:t>like + s = lik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Arial"/>
              </a:rPr>
              <a:t>help + s = hel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52280" y="2286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Objective: To spell and write known high 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52280" y="685800"/>
            <a:ext cx="88394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pelling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1447920"/>
            <a:ext cx="868680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c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t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5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4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4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52280" y="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bjective: To read high 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0880" y="380880"/>
            <a:ext cx="8458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igh Frequency Word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914400"/>
            <a:ext cx="83059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it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e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et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3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29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8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8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8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8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4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4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52280" y="30492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Objective: To use prior knowledge and story information to make predi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762120"/>
            <a:ext cx="8305920" cy="30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Predi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3886200"/>
            <a:ext cx="830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Remember that we can use two things to help us make a prediction when we read or listen to a story.  One is information from the story, such as the title, the words, and the illustrations.  The second thing is what you know from your own personal experie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52280" y="30492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bjective: To review robust vocabu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80880" y="838080"/>
            <a:ext cx="838224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obust Vocabular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1828800"/>
            <a:ext cx="861048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tten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othe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ist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er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uppor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4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4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7200" y="0"/>
            <a:ext cx="8305920" cy="59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ould your teacher be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supportive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if you didn’t pay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attention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to the reading less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Would you be </a:t>
            </a:r>
            <a:r>
              <a:rPr b="1" i="1" lang="en-US" sz="3200" spc="-1" strike="noStrike">
                <a:solidFill>
                  <a:srgbClr val="cc00ff"/>
                </a:solidFill>
                <a:latin typeface="Arial"/>
              </a:rPr>
              <a:t>bothered</a:t>
            </a: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 if you saw someone </a:t>
            </a:r>
            <a:r>
              <a:rPr b="1" i="1" lang="en-US" sz="3200" spc="-1" strike="noStrike">
                <a:solidFill>
                  <a:srgbClr val="cc00ff"/>
                </a:solidFill>
                <a:latin typeface="Arial"/>
              </a:rPr>
              <a:t>perform</a:t>
            </a: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 a da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If you looked at something from a very long 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distance</a:t>
            </a: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, would you be able to 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form</a:t>
            </a: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 a good picture of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73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380880" y="457200"/>
            <a:ext cx="8381520" cy="5865480"/>
            <a:chOff x="380880" y="457200"/>
            <a:chExt cx="8381520" cy="5865480"/>
          </a:xfrm>
        </p:grpSpPr>
        <p:cxnSp>
          <p:nvCxnSpPr>
            <p:cNvPr id="71" name="_s17420"/>
            <p:cNvCxnSpPr>
              <a:stCxn id="72" idx="0"/>
              <a:endCxn id="73" idx="2"/>
            </p:cNvCxnSpPr>
            <p:nvPr/>
          </p:nvCxnSpPr>
          <p:spPr>
            <a:xfrm flipV="1" rot="16200000">
              <a:off x="5451480" y="1922400"/>
              <a:ext cx="1173600" cy="2934360"/>
            </a:xfrm>
            <a:prstGeom prst="bentConnector3">
              <a:avLst>
                <a:gd name="adj1" fmla="val 208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4" name="_s17419"/>
            <p:cNvCxnSpPr>
              <a:stCxn id="75" idx="0"/>
              <a:endCxn id="73" idx="2"/>
            </p:cNvCxnSpPr>
            <p:nvPr/>
          </p:nvCxnSpPr>
          <p:spPr>
            <a:xfrm flipV="1">
              <a:off x="4571280" y="2802960"/>
              <a:ext cx="3240" cy="1173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6" name="_s17418"/>
            <p:cNvCxnSpPr>
              <a:stCxn id="77" idx="0"/>
              <a:endCxn id="73" idx="2"/>
            </p:cNvCxnSpPr>
            <p:nvPr/>
          </p:nvCxnSpPr>
          <p:spPr>
            <a:xfrm flipH="1" flipV="1" rot="5400000">
              <a:off x="2518920" y="1923840"/>
              <a:ext cx="1173600" cy="2931480"/>
            </a:xfrm>
            <a:prstGeom prst="bentConnector3">
              <a:avLst>
                <a:gd name="adj1" fmla="val 208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3" name="_s17414"/>
            <p:cNvSpPr/>
            <p:nvPr/>
          </p:nvSpPr>
          <p:spPr>
            <a:xfrm>
              <a:off x="3314520" y="457200"/>
              <a:ext cx="2514240" cy="2346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Perform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17415"/>
            <p:cNvSpPr/>
            <p:nvPr/>
          </p:nvSpPr>
          <p:spPr>
            <a:xfrm>
              <a:off x="380880" y="3976560"/>
              <a:ext cx="2514240" cy="2346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Do a danc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7416"/>
            <p:cNvSpPr/>
            <p:nvPr/>
          </p:nvSpPr>
          <p:spPr>
            <a:xfrm>
              <a:off x="3314520" y="3976560"/>
              <a:ext cx="2514240" cy="2346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ct in a pla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7417"/>
            <p:cNvSpPr/>
            <p:nvPr/>
          </p:nvSpPr>
          <p:spPr>
            <a:xfrm>
              <a:off x="6248160" y="3976560"/>
              <a:ext cx="2514240" cy="2346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Sing a song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304920" y="228600"/>
            <a:ext cx="8609760" cy="6094080"/>
            <a:chOff x="304920" y="228600"/>
            <a:chExt cx="8609760" cy="6094080"/>
          </a:xfrm>
        </p:grpSpPr>
        <p:cxnSp>
          <p:nvCxnSpPr>
            <p:cNvPr id="79" name="_s18444"/>
            <p:cNvCxnSpPr>
              <a:stCxn id="80" idx="0"/>
              <a:endCxn id="81" idx="2"/>
            </p:cNvCxnSpPr>
            <p:nvPr/>
          </p:nvCxnSpPr>
          <p:spPr>
            <a:xfrm flipV="1" rot="16200000">
              <a:off x="5506560" y="1767960"/>
              <a:ext cx="1219320" cy="3013920"/>
            </a:xfrm>
            <a:prstGeom prst="bentConnector3">
              <a:avLst>
                <a:gd name="adj1" fmla="val 207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2" name="_s18443"/>
            <p:cNvCxnSpPr>
              <a:stCxn id="83" idx="0"/>
              <a:endCxn id="81" idx="2"/>
            </p:cNvCxnSpPr>
            <p:nvPr/>
          </p:nvCxnSpPr>
          <p:spPr>
            <a:xfrm flipV="1">
              <a:off x="4609440" y="2665440"/>
              <a:ext cx="3240" cy="121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4" name="_s18442"/>
            <p:cNvCxnSpPr>
              <a:stCxn id="85" idx="0"/>
              <a:endCxn id="81" idx="2"/>
            </p:cNvCxnSpPr>
            <p:nvPr/>
          </p:nvCxnSpPr>
          <p:spPr>
            <a:xfrm flipH="1" flipV="1" rot="5400000">
              <a:off x="2494800" y="1769400"/>
              <a:ext cx="1219320" cy="3011400"/>
            </a:xfrm>
            <a:prstGeom prst="bentConnector3">
              <a:avLst>
                <a:gd name="adj1" fmla="val 207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1" name="_s18438"/>
            <p:cNvSpPr/>
            <p:nvPr/>
          </p:nvSpPr>
          <p:spPr>
            <a:xfrm>
              <a:off x="3318120" y="228600"/>
              <a:ext cx="2583000" cy="2437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bothere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18439"/>
            <p:cNvSpPr/>
            <p:nvPr/>
          </p:nvSpPr>
          <p:spPr>
            <a:xfrm>
              <a:off x="304920" y="3885120"/>
              <a:ext cx="2583000" cy="2437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having to eat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something I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don’t lik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18440"/>
            <p:cNvSpPr/>
            <p:nvPr/>
          </p:nvSpPr>
          <p:spPr>
            <a:xfrm>
              <a:off x="3318120" y="3885120"/>
              <a:ext cx="2583000" cy="2437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a boring movi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18441"/>
            <p:cNvSpPr/>
            <p:nvPr/>
          </p:nvSpPr>
          <p:spPr>
            <a:xfrm>
              <a:off x="6331680" y="3885120"/>
              <a:ext cx="2583000" cy="2437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loud nois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8600" y="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Objective: To understand that a sentence tells a complete thought or idea; to write complete sent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2280" y="685800"/>
            <a:ext cx="8839440" cy="52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Today we are going to write some sentences about things we like to do. Make sure that your sentences are complete thoughts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I like to ride my b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Arial"/>
              </a:rPr>
              <a:t>The word </a:t>
            </a:r>
            <a:r>
              <a:rPr b="1" i="1" lang="en-US" sz="2800" spc="-1" strike="noStrike">
                <a:solidFill>
                  <a:srgbClr val="cc00ff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cc00ff"/>
                </a:solidFill>
                <a:latin typeface="Arial"/>
              </a:rPr>
              <a:t> means the sentence is about you and the words </a:t>
            </a:r>
            <a:r>
              <a:rPr b="1" i="1" lang="en-US" sz="2800" spc="-1" strike="noStrike">
                <a:solidFill>
                  <a:srgbClr val="cc00ff"/>
                </a:solidFill>
                <a:latin typeface="Arial"/>
              </a:rPr>
              <a:t>like to ride my bike</a:t>
            </a:r>
            <a:r>
              <a:rPr b="1" lang="en-US" sz="2800" spc="-1" strike="noStrike">
                <a:solidFill>
                  <a:srgbClr val="cc00ff"/>
                </a:solidFill>
                <a:latin typeface="Arial"/>
              </a:rPr>
              <a:t> tell what you like to 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Make sure that you always start you sentence with a capital letter and end with a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4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4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2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2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2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8600" y="30492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bjective: To generate ideas before writing; to write labels for illust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990720"/>
            <a:ext cx="84582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ab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 label names someone or some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 label is short. It has one or two wo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ords in labels should be spelled correc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Names in labels should begin with a capital le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5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5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77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5" dur="77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7" dur="77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9" dur="77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28600" y="30492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Arial"/>
              </a:rPr>
              <a:t>Objective: To listen and to respond appropriately to oral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990720"/>
            <a:ext cx="8381880" cy="53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Quest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of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a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0"/>
            <a:ext cx="8381880" cy="62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ff"/>
                </a:solidFill>
                <a:latin typeface="Arial"/>
              </a:rPr>
              <a:t>Do you like to da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Arial"/>
              </a:rPr>
              <a:t>On my signal, you will turn and talk with your partner to complete the following sent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 like to dance because ______________________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77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77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" dur="77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" dur="77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304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bjective: To participate actively in a traditional song and dance; to recall and sing words to a song; to follow directions to perform a d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523880"/>
            <a:ext cx="84582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ff"/>
                </a:solidFill>
                <a:latin typeface="Arial"/>
              </a:rPr>
              <a:t>We’re going to review a song that we introduced yesterday.  Remember that you are looking for words that have rhythm.  I will read it first and then you can read with me the second tim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152280"/>
            <a:ext cx="8382240" cy="73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You put your right foot 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You put your right foot ou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You put your right foot in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And you shake it all abou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You do the Hokey-Poke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And you turn yourself arou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That’s what it’s all about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Objective: To read high 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80880" y="380880"/>
            <a:ext cx="83822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ord Wall Word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1143000"/>
            <a:ext cx="800100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let’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w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l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4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9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30492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bjective: To recognize and identify individual words in sent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1066680"/>
            <a:ext cx="87631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Arial"/>
              </a:rPr>
              <a:t>Today we will work on sentences again.  I will tell you a sentence and you will tell me the number of words you hear.  I also want you to tell me the last word in the sentenc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8600" y="0"/>
            <a:ext cx="861048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I am thirs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Do you ride a b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That is a tall t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My dog has spo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The cat jum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Dad is gl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The crayon is gr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You are my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I like to sw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8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3049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bjective: To recognize and read words with inflection -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838080"/>
            <a:ext cx="8610480" cy="54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Remember that s can be added to the end of a word to make a new word. The word we add the s to is called a root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word hat is a root word.  If you add an s you make the word ha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When I add s to the root word run, I make the word ru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03:01:23Z</dcterms:created>
  <dc:creator>Valued Gateway Client</dc:creator>
  <dc:description/>
  <dc:language>en-US</dc:language>
  <cp:lastModifiedBy>Valued Gateway Client</cp:lastModifiedBy>
  <dcterms:modified xsi:type="dcterms:W3CDTF">2009-08-24T03:01:33Z</dcterms:modified>
  <cp:revision>1</cp:revision>
  <dc:subject/>
  <dc:title>Slide 1</dc:title>
</cp:coreProperties>
</file>