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224-91C6-4291-92C8-6A3A62A7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D11-881F-4515-9F76-FA8D6DC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F29-CAFA-41B6-BF03-C69FC8CE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68A-FF56-4A46-9D49-72367B1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D72-7C1A-498D-9D9E-6E813A8C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97F-E2B3-4EBD-91FF-7C87440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D38-3423-4E5A-A6AB-BCA504CA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06C-9240-4B94-9574-AF9AAB2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03D-F186-4247-A5D0-39612CB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4FA-26F6-4BE5-B865-D40EE7B6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7EB-7555-4FA6-8A87-31CAB35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793-F227-482E-A194-EB44F4D9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D8D-D3C3-4FC1-A3AD-992BAD98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3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g is a cat with a big gr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g has to sing a s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Bat Learned to Fly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544840"/>
            <a:ext cx="51814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7668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24280" y="1523880"/>
            <a:ext cx="401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having done something wrong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Comic Sans MS"/>
              </a:rPr>
              <a:t>How would you look if you felt asham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593720"/>
            <a:ext cx="4286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used about something, you were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How would you look if you were musing over some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47968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1294920"/>
            <a:ext cx="4419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soared, you flew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y high in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air.  </a:t>
            </a:r>
            <a:br>
              <a:rPr sz="4800"/>
            </a:br>
            <a:r>
              <a:rPr b="0" lang="en-US" sz="4800" spc="-1" strike="noStrike">
                <a:solidFill>
                  <a:srgbClr val="99cc00"/>
                </a:solidFill>
                <a:latin typeface="Comic Sans MS"/>
              </a:rPr>
              <a:t>Pretend you are soar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2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nouns that name one or more than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he showed Mouse the way he liked to hold the ball, Raccoon style, under his bi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ead you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en you jump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 = names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s = names more than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a time when you were walking outside.  What interest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d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on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man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at many plurals end in -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9343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dialogue is a conversation that is written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exact words people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 (“ ”) are used around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 (,) is often used after the exact word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You and you partner choose a focus for this weeks writing. Draw a picture of you and your partner doing an activity.  Imagine that you are talking.  Practice what you would say to each oth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phthong /ng/ 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0512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the /ng/ sound, you hold up your thumb in front of your chest and say /ng/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ng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83120" y="1752480"/>
            <a:ext cx="2982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286080" cy="492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4080" y="1295280"/>
            <a:ext cx="315576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ng/ ng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44792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4:46Z</dcterms:modified>
  <cp:revision>74</cp:revision>
  <dc:subject/>
  <dc:title>Slide 1</dc:title>
</cp:coreProperties>
</file>