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8.gif" ContentType="image/gif"/>
  <Override PartName="/ppt/media/image9.gif" ContentType="image/gif"/>
  <Override PartName="/ppt/media/image10.gif" ContentType="image/gif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EDF9-B4A0-46F3-8D92-A32C59558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5EA6-214B-4A19-923B-2E9B4148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7C1B-FC4E-4C1B-B88C-0CEE1AD2F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FE81-CDB8-4AD9-8067-0FEC977EC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74B4-24F9-41FA-8152-5D618C49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7A9C-678A-467C-BAAD-2A39725F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15E2-197A-4A0A-83D2-18F8ECFD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5CAF-BE8C-44F6-9B7C-37E1775B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D8E5-22C5-4F73-8435-6292C020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5688-107E-4157-B387-C1312639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D1F1-A332-41C5-B502-58C13150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EF69-E7E3-4569-AA80-2672DDFE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6353-1CD1-4580-BB99-06309CD61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vember 3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10, Da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ing is a cat with a big gri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rog has to sing a so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ai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8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3" dur="2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838080"/>
            <a:ext cx="8534520" cy="1295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213372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retell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914400"/>
            <a:ext cx="8153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2514600"/>
            <a:ext cx="8305920" cy="1676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6668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4648320"/>
            <a:ext cx="8305560" cy="1828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419112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4724280"/>
            <a:ext cx="7696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w Bat Learned to Fly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30492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ad Alou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characteristics of folkt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05120" y="2544840"/>
            <a:ext cx="518148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im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a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776680" y="258840"/>
            <a:ext cx="359064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ham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80880" y="176688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724280" y="1523880"/>
            <a:ext cx="40179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are </a:t>
            </a:r>
            <a:r>
              <a:rPr b="1" lang="en-US" sz="3800" spc="-1" strike="noStrike">
                <a:solidFill>
                  <a:srgbClr val="bbe0e3"/>
                </a:solidFill>
                <a:latin typeface="Comic Sans MS"/>
              </a:rPr>
              <a:t>ashamed</a:t>
            </a: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, you feel bad about having done something wrong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99cc00"/>
                </a:solidFill>
                <a:latin typeface="Comic Sans MS"/>
              </a:rPr>
              <a:t>How would you look if you felt ashamed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0" y="1593720"/>
            <a:ext cx="428616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mused about something, you were think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bout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Comic Sans MS"/>
              </a:rPr>
              <a:t>How would you look if you were musing over someth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76680" y="258840"/>
            <a:ext cx="359064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43120" y="268200"/>
            <a:ext cx="391968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mus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2479680"/>
            <a:ext cx="4038480" cy="3305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723920" y="1294920"/>
            <a:ext cx="441972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f you soared, you flew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very high into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 air.  </a:t>
            </a:r>
            <a:br>
              <a:rPr sz="4800"/>
            </a:br>
            <a:r>
              <a:rPr b="0" lang="en-US" sz="4800" spc="-1" strike="noStrike">
                <a:solidFill>
                  <a:srgbClr val="99cc00"/>
                </a:solidFill>
                <a:latin typeface="Comic Sans MS"/>
              </a:rPr>
              <a:t>Pretend you are soar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" y="2496960"/>
            <a:ext cx="4038480" cy="27324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590920" y="304920"/>
            <a:ext cx="359064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43200" y="457200"/>
            <a:ext cx="33829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soar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467120" y="228240"/>
            <a:ext cx="1676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nouns that name one or more than o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he showed Mouse the way he liked to hold the ball, Raccoon style, under his big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r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read your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rm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when you jump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Arm = names one 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Arms = names more than one 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22860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ne and More Than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nk about a time when you were walking outside.  What interesting th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d you se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 saw one 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 saw many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772400" y="0"/>
            <a:ext cx="1371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that many plurals end in -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693432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315200" y="152280"/>
            <a:ext cx="1828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at dialogue is a conversation that is written dow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554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ialo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ntences have exact words people say to each 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ation marks (“ ”) are used around the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ma (,) is often used after the exact words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ntences have words lik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sk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a list of criteria for effective dialogu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e Dialo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choose a focus for wri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001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You and you partner choose a focus for this weeks writing. Draw a picture of you and your partner doing an activity.  Imagine that you are talking.  Practice what you would say to each other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772400" y="0"/>
            <a:ext cx="1371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choose a focus for writing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95680" y="2133720"/>
            <a:ext cx="38102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Aloud –             “Counting on the Wood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es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o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86240" y="-360"/>
            <a:ext cx="2057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egment phonemes in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 Segmen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81480" y="685800"/>
            <a:ext cx="36324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781680" y="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and generate the  sound of the diphthong /ng/ ng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228600"/>
            <a:ext cx="8458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iphthong /ng/ 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1905120"/>
            <a:ext cx="4343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 say a word that ends with the /ng/ sound, you hold up your thumb in front of your chest and say /ng/.  When I say a word that does not begin with /u/, put your thumb dow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4235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95480" y="1219320"/>
            <a:ext cx="1447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ng/ ng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1219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67080" y="1219320"/>
            <a:ext cx="129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339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3657600"/>
            <a:ext cx="1218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95680" y="4952880"/>
            <a:ext cx="1143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57600" y="4952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71800" y="4952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883120" y="1752480"/>
            <a:ext cx="29829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3286080" cy="4929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734080" y="1295280"/>
            <a:ext cx="3155760" cy="4724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315200" y="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/ng/ ng and other known letter-sounds to spell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5120" y="1447920"/>
            <a:ext cx="525780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o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en called go to your seat and label the paper with your name and dat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t’s time to take our spelling pre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Carey Dailey</cp:lastModifiedBy>
  <dcterms:modified xsi:type="dcterms:W3CDTF">2008-11-22T04:04:46Z</dcterms:modified>
  <cp:revision>74</cp:revision>
  <dc:subject/>
  <dc:title>Slide 1</dc:title>
</cp:coreProperties>
</file>