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0F1D-292F-48A2-B6E4-4E6E077C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455B-7A22-4C73-B9EF-1FF24A33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2CD4-C2EF-484A-92C3-76061D10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CCD-2341-45E2-8C76-5C214968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A2D7-A2B7-41E3-A6E4-88FBA72F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43CC-749B-4C10-A04C-E2701DA9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4BA-7C72-44C9-B246-ABE6AB0B2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88C-097B-416B-AB5A-1D47BCC5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3B6-B6D6-4CC6-9745-6B8396B82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62B-87E7-46FD-B72D-D4B8B80A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174-FA29-4982-82BE-394CA420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ECC-1CA6-4DA6-B17C-15D84B6D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0CF8-4EDD-4B4A-8175-C58FA900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s, every, feet, head, school, use, way, your, here, many, d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10A-6B28-40F0-A55D-F0D5CA1F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E9C9-C423-42CB-A666-3CAB9BF3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9781-9CBB-4FCC-8DEF-113BF895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568F-E1BD-4B14-9E4D-027336B4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032-822A-4A63-8453-8D13220A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2A73-96F9-4CE3-882B-D968DF1A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B8F-CBBA-4A24-8A1D-3522B81F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DA-40B8-4260-99F5-71496A9C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DDC-7BD9-4DF5-AF9D-FF6B7E32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2BB-A74F-46D5-A5A0-4B2BE0A3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D51-B68E-48F3-9845-9EDD6599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8AC-4578-4D16-A33C-F3CFF1B7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08D-4A88-434D-83EE-684CF59E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F9C-78D5-4B3D-8BA4-313CDD3E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3DC-640A-4E78-A48D-F5625CB7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ACC-B63C-48EE-A952-125C0E5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FDE-F027-4686-BC3B-D64F968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B1D-7509-49F0-9EE5-6C76E99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A288-D80C-41CD-9626-41628830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0"/>
          <a:ext cx="8229600" cy="6629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8"/>
          <p:cNvSpPr/>
          <p:nvPr/>
        </p:nvSpPr>
        <p:spPr>
          <a:xfrm>
            <a:off x="6705720" y="0"/>
            <a:ext cx="243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story structure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asha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0" lang="en-US" sz="3800" spc="-1" strike="noStrike">
                <a:solidFill>
                  <a:srgbClr val="c00000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something you have don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Pj043319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55861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us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bout something, you were thinking abou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4876920" y="45720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724280" y="5335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think.bmp"/>
          <p:cNvPicPr/>
          <p:nvPr/>
        </p:nvPicPr>
        <p:blipFill>
          <a:blip r:embed="rId1"/>
          <a:stretch/>
        </p:blipFill>
        <p:spPr>
          <a:xfrm>
            <a:off x="380880" y="457200"/>
            <a:ext cx="401976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2240" y="1523880"/>
            <a:ext cx="3911760" cy="4554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6000" spc="-1" strike="noStrike">
                <a:solidFill>
                  <a:srgbClr val="c00000"/>
                </a:solidFill>
                <a:latin typeface="Comic Sans MS"/>
              </a:rPr>
              <a:t>soare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, you flew very high in the a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178845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992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nderline the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 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t the end of each plural no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have ten little fingers and ten little t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arms and one little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mouth and two little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eyes for smiles and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head and two little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chin, that’s ME comple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bjective: To  recognize that many plural nouns end in –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Boy%20&amp;%20Girl%20Coloring%20Page.gif"/>
          <p:cNvPicPr/>
          <p:nvPr/>
        </p:nvPicPr>
        <p:blipFill>
          <a:blip r:embed="rId1"/>
          <a:stretch/>
        </p:blipFill>
        <p:spPr>
          <a:xfrm>
            <a:off x="3505320" y="4572000"/>
            <a:ext cx="178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Writing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1430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ntinue yesterday’s weekly writing focus that you began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Remember that when you write dialogue you use quotation marks, commas, and end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Users\Janice\AppData\Local\Microsoft\Windows\Temporary Internet Files\Content.IE5\CVW5V2AD\MPj04090430000[1].jpg"/>
          <p:cNvPicPr/>
          <p:nvPr/>
        </p:nvPicPr>
        <p:blipFill>
          <a:blip r:embed="rId1"/>
          <a:stretch/>
        </p:blipFill>
        <p:spPr>
          <a:xfrm>
            <a:off x="3657600" y="1066680"/>
            <a:ext cx="520236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new things have you learned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am big.  I can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7575d1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75d1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Janice\AppData\Local\Microsoft\Windows\Temporary Internet Files\Content.IE5\CVW5V2AD\MPj04286580000[1].jpg"/>
          <p:cNvPicPr/>
          <p:nvPr/>
        </p:nvPicPr>
        <p:blipFill>
          <a:blip r:embed="rId1"/>
          <a:stretch/>
        </p:blipFill>
        <p:spPr>
          <a:xfrm>
            <a:off x="2590920" y="2666880"/>
            <a:ext cx="4209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0" y="1143000"/>
            <a:ext cx="56386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Row, Row, Row Your Boa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, say, say the sound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rin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’ll have fun and when we’re d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 will smile and clap!  /r/ /i/ /n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6400800" y="533520"/>
            <a:ext cx="27432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h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121932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907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143000" y="2362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5800" y="3429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04920" y="34290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286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914400" y="34290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1"/>
          <p:cNvSpPr/>
          <p:nvPr/>
        </p:nvSpPr>
        <p:spPr>
          <a:xfrm>
            <a:off x="1981080" y="-38088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click on the dog to learn more about 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plot in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4479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4T03:04:37Z</dcterms:modified>
  <cp:revision>119</cp:revision>
  <dc:subject/>
  <dc:title>Slide 1</dc:title>
</cp:coreProperties>
</file>