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61B0-CB00-40D3-9E21-8E332B349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A13D-A6DA-403A-B7FC-94312AA73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32CE-B8B4-4C6A-ACCD-CAD6D93B7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A588-8470-4DD3-8C31-9F1D9AE4F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44F6-75D4-4E79-99B0-8D176D45B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1BE1-FC76-45EA-BDB2-8B8DBA77C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0B8B-582F-416A-A80E-23D8C8CBC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088B-4D39-44B7-BD63-5228B510B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9101-8515-4A87-9DE9-D0DD0BD78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50BD-DD8A-4BCA-A71D-CF5887BCB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1BB7-A042-4CB7-AC22-3B9E34763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7801-18ED-47CB-A1A3-A67B9FFCB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3327-8D7F-4E3A-86D6-0C39C3F5E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s, every, feet, head, school, use, way, your, here, many, d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BE4E-4FB9-4BD6-9854-AAC12344F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D8F2-61A6-43EE-8D37-CD4E3CDCE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36FB-4073-4A65-AC96-9D4010F72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, song, sing, ring, bring, thing, us, must, does,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5AE1-CE1F-41B2-8E8A-B967E8B27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, song, sing, ring, bring, thing, us, must, does,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316F-E589-4D95-B818-CD94680CE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41E2-17A8-4658-8CE5-E38115CA9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729F-1741-4301-88C5-E68C1FC3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2ACD-C33B-46C9-8336-85FDC909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9ADA-D820-4EB5-8E22-48BE25B5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0D1-4120-42A5-B7C5-63562482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68F6-D981-41A1-BC58-51D51EFD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AE46-B117-4ECE-A27B-445AA251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5B1B-48A3-4A9C-A8D0-F16C3F37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351-F009-4C44-9333-E2E81BA1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FAA-9DC1-4906-A60C-C857D671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A37A-85BF-4B23-8885-A16C226D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668C-516D-420B-8835-4BDBE7C2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EF08-1F21-4B8B-A1E5-E57138E8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1D58-44D7-4A21-8101-54DD3ECDA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4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0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575d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575d1"/>
                </a:solidFill>
                <a:latin typeface="Comic Sans MS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e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6629400" y="57150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ad high-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0"/>
          <a:ext cx="8229600" cy="66294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gin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1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05" name="TextBox 8"/>
          <p:cNvSpPr/>
          <p:nvPr/>
        </p:nvSpPr>
        <p:spPr>
          <a:xfrm>
            <a:off x="6705720" y="0"/>
            <a:ext cx="2438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se story structure as a strategy for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haroni"/>
                <a:ea typeface="Aharoni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asha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m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so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84160" y="339840"/>
            <a:ext cx="3784680" cy="70776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ham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340320" y="1714680"/>
            <a:ext cx="255456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re </a:t>
            </a:r>
            <a:r>
              <a:rPr b="0" lang="en-US" sz="3800" spc="-1" strike="noStrike">
                <a:solidFill>
                  <a:srgbClr val="c00000"/>
                </a:solidFill>
                <a:latin typeface="Comic Sans MS"/>
              </a:rPr>
              <a:t>ashamed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, you feel bad about something you have don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MPj04331970000[1]"/>
          <p:cNvPicPr/>
          <p:nvPr/>
        </p:nvPicPr>
        <p:blipFill>
          <a:blip r:embed="rId1"/>
          <a:stretch/>
        </p:blipFill>
        <p:spPr>
          <a:xfrm>
            <a:off x="533520" y="1905120"/>
            <a:ext cx="5586120" cy="41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626000" y="1593720"/>
            <a:ext cx="4232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mused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about something, you were thinking about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4876920" y="45720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724280" y="53352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mus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think.bmp"/>
          <p:cNvPicPr/>
          <p:nvPr/>
        </p:nvPicPr>
        <p:blipFill>
          <a:blip r:embed="rId1"/>
          <a:stretch/>
        </p:blipFill>
        <p:spPr>
          <a:xfrm>
            <a:off x="380880" y="457200"/>
            <a:ext cx="401976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232240" y="1523880"/>
            <a:ext cx="3911760" cy="455472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6000" spc="-1" strike="noStrike">
                <a:solidFill>
                  <a:srgbClr val="c00000"/>
                </a:solidFill>
                <a:latin typeface="Comic Sans MS"/>
              </a:rPr>
              <a:t>soared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, you flew very high in the ai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2590920" y="304920"/>
            <a:ext cx="359064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743200" y="457200"/>
            <a:ext cx="33829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oar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MPj01788450000[1]"/>
          <p:cNvPicPr/>
          <p:nvPr/>
        </p:nvPicPr>
        <p:blipFill>
          <a:blip r:embed="rId1"/>
          <a:stretch/>
        </p:blipFill>
        <p:spPr>
          <a:xfrm>
            <a:off x="228600" y="2133720"/>
            <a:ext cx="4992840" cy="33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51920"/>
            <a:ext cx="86868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Underline the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 s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at the end of each plural no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I have ten little fingers and ten little t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Two little arms and one little n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One little mouth and two little 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Two little eyes for smiles and t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One little head and two little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One little chin, that’s ME comple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553080" y="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Objective: To  recognize that many plural nouns end in –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Boy%20&amp;%20Girl%20Coloring%20Page.gif"/>
          <p:cNvPicPr/>
          <p:nvPr/>
        </p:nvPicPr>
        <p:blipFill>
          <a:blip r:embed="rId1"/>
          <a:stretch/>
        </p:blipFill>
        <p:spPr>
          <a:xfrm>
            <a:off x="3505320" y="4572000"/>
            <a:ext cx="178092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</a:rPr>
              <a:t>Writing Foc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11430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ontinue yesterday’s weekly writing focus that you began with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Remember that when you write dialogue you use quotation marks, commas, and end 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Users\Janice\AppData\Local\Microsoft\Windows\Temporary Internet Files\Content.IE5\CVW5V2AD\MPj04090430000[1].jpg"/>
          <p:cNvPicPr/>
          <p:nvPr/>
        </p:nvPicPr>
        <p:blipFill>
          <a:blip r:embed="rId1"/>
          <a:stretch/>
        </p:blipFill>
        <p:spPr>
          <a:xfrm>
            <a:off x="3657600" y="1066680"/>
            <a:ext cx="5202360" cy="52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new things have you learned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I am big.  I can 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4495680" y="1371600"/>
            <a:ext cx="381024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 Aloud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457200" y="838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Week’s Sigh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858000" y="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7575d1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575d1"/>
                </a:solidFill>
                <a:latin typeface="Arial"/>
              </a:rPr>
              <a:t>Phoneme 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Users\Janice\AppData\Local\Microsoft\Windows\Temporary Internet Files\Content.IE5\CVW5V2AD\MPj04286580000[1].jpg"/>
          <p:cNvPicPr/>
          <p:nvPr/>
        </p:nvPicPr>
        <p:blipFill>
          <a:blip r:embed="rId1"/>
          <a:stretch/>
        </p:blipFill>
        <p:spPr>
          <a:xfrm>
            <a:off x="2590920" y="2666880"/>
            <a:ext cx="420984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words into phonemes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2860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Let’s 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0" y="1143000"/>
            <a:ext cx="563868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You will sing a song and say the sounds that make up each word.  Sing to the tune of “Row, Row, Row Your Boa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ay, say, say the sound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ay the sounds in 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ring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e’ll have fun and when we’re do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e will smile and clap!  /r/ /i/ /n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2" descr="C:\Users\Janice\AppData\Local\Microsoft\Windows\Temporary Internet Files\Content.IE5\CVW5V2AD\MCj03974940000[1].wmf"/>
          <p:cNvPicPr/>
          <p:nvPr/>
        </p:nvPicPr>
        <p:blipFill>
          <a:blip r:embed="rId1"/>
          <a:stretch/>
        </p:blipFill>
        <p:spPr>
          <a:xfrm>
            <a:off x="5257800" y="380880"/>
            <a:ext cx="2438280" cy="59436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0"/>
          <p:cNvSpPr/>
          <p:nvPr/>
        </p:nvSpPr>
        <p:spPr>
          <a:xfrm>
            <a:off x="6400800" y="533520"/>
            <a:ext cx="274320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th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h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r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ra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sa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990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ng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57200" y="121932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99072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1143000" y="23623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685800" y="2362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304920" y="2362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85800" y="3429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304920" y="342900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762120" y="45720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457200" y="4572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228600" y="4572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8"/>
          <p:cNvSpPr/>
          <p:nvPr/>
        </p:nvSpPr>
        <p:spPr>
          <a:xfrm>
            <a:off x="4343400" y="1600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800600" y="1600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1"/>
          <p:cNvSpPr/>
          <p:nvPr/>
        </p:nvSpPr>
        <p:spPr>
          <a:xfrm>
            <a:off x="5105520" y="1600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4191120" y="2514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4800600" y="2514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5029200" y="251460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6"/>
          <p:cNvSpPr/>
          <p:nvPr/>
        </p:nvSpPr>
        <p:spPr>
          <a:xfrm>
            <a:off x="914400" y="342900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8"/>
          <p:cNvSpPr/>
          <p:nvPr/>
        </p:nvSpPr>
        <p:spPr>
          <a:xfrm>
            <a:off x="5334120" y="1600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0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u/ u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1"/>
          <p:cNvSpPr/>
          <p:nvPr/>
        </p:nvSpPr>
        <p:spPr>
          <a:xfrm>
            <a:off x="1981080" y="-380880"/>
            <a:ext cx="525780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u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et’s click on the dog to learn more about pl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n thinkcentral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plot in a sel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lost_dog_el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44792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Janice Wagnon</cp:lastModifiedBy>
  <dcterms:modified xsi:type="dcterms:W3CDTF">2008-11-04T03:04:37Z</dcterms:modified>
  <cp:revision>119</cp:revision>
  <dc:subject/>
  <dc:title>Slide 1</dc:title>
</cp:coreProperties>
</file>