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121-3486-46CA-9DE4-3FF24561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AC5-E494-4C59-AC7C-460E21BA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794-1BDC-4D50-961D-521BB67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AE4-5440-4179-B33E-0FF8E461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EB6-9CE3-4C15-9AED-24499F2A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528-62B4-4C2D-9B46-331285C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E7E-412B-4E63-9FDC-1369D55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A66-954B-459D-A0CC-2BBE2025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DCA-825D-4393-A02B-7BF8BDFA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3B9-F3E8-4BB2-B1C4-521AF92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688-F142-4EF4-8304-8C19356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EC0-1BC3-4038-91CB-C678A82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ECF0-FD8E-453F-8056-4F2AB4D77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ache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86764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99036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sson 10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2666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vember 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1828800"/>
            <a:ext cx="5867280" cy="3106800"/>
            <a:chOff x="1371600" y="1828800"/>
            <a:chExt cx="5867280" cy="31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586728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1371600" y="1828800"/>
              <a:ext cx="5867280" cy="310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716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occer ball to go to think cent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hle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wkw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er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197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thletic person is active, strong, and able to play spor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28600"/>
            <a:ext cx="4724280" cy="15876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85800"/>
            <a:ext cx="403848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thletic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457200"/>
            <a:ext cx="4056120" cy="10666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33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wk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1600200"/>
            <a:ext cx="41148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are awkward, you move in a clumsy, rough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329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76920" y="1828800"/>
            <a:ext cx="3962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something is superb, it is the best it can be, or excel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2640" y="266760"/>
            <a:ext cx="4780080" cy="1449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44578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superb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entences with plural nouns tha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–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yers, teams, sneakers, pads, helme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ippers, skateboards, shin gu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You have strong arms and hands,” said Tom.  “You got Gus out of a tree.”  “You got my ball, too,” said Fr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Continue working on Dialo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quotation marks and com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to use the words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ai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ske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rds rhyme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rhymes with _________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9880" y="152280"/>
            <a:ext cx="56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g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*What other things can you do with a b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0554_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01000" y="152280"/>
            <a:ext cx="45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7840" y="152280"/>
            <a:ext cx="34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782040" cy="359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99"/>
                </a:solidFill>
                <a:uFillTx/>
                <a:latin typeface="Century Gothic"/>
              </a:rPr>
              <a:t>Phonemic Awarenes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entury Gothic"/>
              </a:rPr>
              <a:t>Phonem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entury Gothic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w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t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hthong /ng/ 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sat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ong so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uzz!Buz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?”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was a bug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wing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, no!” sai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is not good to ge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t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got of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f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B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How Bat Learned to F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ich sentence best tells about the pl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The story is about how some animals invented a ball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2. The story is about how a mouse learns to fly so well that he becomes a b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3. The story is about how Mother Earth got her long green g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3:21:06Z</dcterms:created>
  <dc:creator>Federated Group</dc:creator>
  <dc:description/>
  <dc:language>en-US</dc:language>
  <cp:lastModifiedBy>Federated Group</cp:lastModifiedBy>
  <dcterms:modified xsi:type="dcterms:W3CDTF">2008-11-05T05:10:26Z</dcterms:modified>
  <cp:revision>6</cp:revision>
  <dc:subject/>
  <dc:title>Lesson 10  Day 3</dc:title>
</cp:coreProperties>
</file>