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7F6-D1DA-4CDC-9104-B054DC9E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F8F-3294-446D-9085-F13F39C9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274-DA0E-48E6-90E7-CACBA20F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DBC-9100-4B84-A796-2BD527F1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C8D-F791-4725-BF6A-1D6EAC80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BCD-0509-4FDB-A946-41EE1695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9B0-3EB2-4556-BEC3-AD4AABF5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9BF-E23A-4747-9E21-0011CDBB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4AE-56CD-4FD5-88B8-C87AFB4D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61E-CCE8-4C73-94BE-9A4E961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AFD-824A-4734-90D9-3D0CAFDA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CD2-EB36-4860-BF6F-9F289E0A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6646-9129-451D-9C14-496B9D34D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ache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867640" cy="575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990360"/>
            <a:ext cx="3124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sson 10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2666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vember 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1828800"/>
            <a:ext cx="5867280" cy="3106800"/>
            <a:chOff x="1371600" y="1828800"/>
            <a:chExt cx="5867280" cy="31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5867280" cy="31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1371600" y="1828800"/>
              <a:ext cx="5867280" cy="310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3716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occer ball to go to think cent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hlet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wkw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per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197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thletic person is active, strong, and able to play sport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228600"/>
            <a:ext cx="4724280" cy="15876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685800"/>
            <a:ext cx="403848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thletic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457200"/>
            <a:ext cx="4056120" cy="10666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335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wk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1600200"/>
            <a:ext cx="41148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are awkward, you move in a clumsy, rough 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880" y="2133720"/>
            <a:ext cx="3297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876920" y="1828800"/>
            <a:ext cx="3962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something is superb, it is the best it can be, or excell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2640" y="266760"/>
            <a:ext cx="4780080" cy="1449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44578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superb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292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and More than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entences with plural nouns that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–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yers, teams, sneakers, pads, helme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lippers, skateboards, shin gu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You have strong arms and hands,” said Tom.  “You got Gus out of a tree.”  “You got my ball, too,” said Fr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*Continue working on Dialog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*Remember quotation marks and com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*Remember to use the words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aid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asked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of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ords rhyme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 rhymes with _________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9880" y="152280"/>
            <a:ext cx="56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listen and respond appropriately to oral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Al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g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*What other things can you do with a b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S00554_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975120" cy="3468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01000" y="152280"/>
            <a:ext cx="45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7840" y="152280"/>
            <a:ext cx="34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782040" cy="3591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99"/>
                </a:solidFill>
                <a:uFillTx/>
                <a:latin typeface="Century Gothic"/>
              </a:rPr>
              <a:t>Phonemic Awareness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entury Gothic"/>
              </a:rPr>
              <a:t>Phoneme Se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entury Gothic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 o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o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w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t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phthong /ng/ 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sat in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w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a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ong so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uzz!Buz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is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h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?”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t was a bug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wings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, no!” sai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t is not good to ge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t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got of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w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f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B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entury Gothic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entury Gothic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Century Gothic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Century Gothic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ff6600"/>
                </a:solidFill>
                <a:latin typeface="Century Gothic"/>
              </a:rPr>
              <a:t>How Bat Learned to F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ich sentence best tells about the pl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The story is about how some animals invented a ball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2. The story is about how a mouse learns to fly so well that he becomes a b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3. The story is about how Mother Earth got her long green gow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3:21:06Z</dcterms:created>
  <dc:creator>Federated Group</dc:creator>
  <dc:description/>
  <dc:language>en-US</dc:language>
  <cp:lastModifiedBy>Federated Group</cp:lastModifiedBy>
  <dcterms:modified xsi:type="dcterms:W3CDTF">2008-11-05T05:10:26Z</dcterms:modified>
  <cp:revision>6</cp:revision>
  <dc:subject/>
  <dc:title>Lesson 10  Day 3</dc:title>
</cp:coreProperties>
</file>