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396-C203-42FC-9679-60612E93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AE2-8706-4B99-9105-3BE32B05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5C3-7F10-4A18-8EA1-23D5F68C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0A5-4AA2-4493-8438-3D1EB988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27F-AE1E-4F85-88B2-025F21F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0B15-898F-4EA2-8B11-6983360A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429-6421-4150-A64C-B8A924C4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7E0-5BD9-4A86-BE1E-B28A4A28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FB3-6975-48CA-BF42-2FC87A39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C02-467C-4791-9921-53117047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4FC-B098-4421-9671-1528CCB5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130-B1B2-4D62-A34E-382435B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A85F-C0A4-49BC-B228-E8CB72768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490000%5B1%5D.wav" TargetMode="External"/><Relationship Id="rId2" Type="http://schemas.microsoft.com/office/2007/relationships/media" Target="file:///tmp/home/.config/libreoffice/4/user/gallery/MSj03885490000%5B1%5D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7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1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 lives in the Nor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 likes all spor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38080"/>
            <a:ext cx="8534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144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14600"/>
            <a:ext cx="8305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66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648320"/>
            <a:ext cx="830556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1911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7242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ld Horse Winter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18184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zz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57920" y="1625400"/>
            <a:ext cx="3044880" cy="48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an animal nuzzled against you, it would be rubbing you with its face or no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41972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42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nuzzl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554880" y="53640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8040" y="1339920"/>
            <a:ext cx="344160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62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pranced around, you would be walking in a bouncy, springy way, like a hor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6040" y="1874880"/>
            <a:ext cx="5411880" cy="360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0040" y="0"/>
            <a:ext cx="77151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n something is raging, it is happening in a strong or out-of-control w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54800" y="2209680"/>
            <a:ext cx="3589200" cy="127656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36232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ag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517840"/>
            <a:ext cx="6108840" cy="4078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 Smith likes hor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. Hill has a ho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orse’s name is Mu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. Chin is a v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pecial Names and Ti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of a bug that you have se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color was i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part of its body helped it mo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bug I looked at was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used its _________ to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716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315200" y="0"/>
            <a:ext cx="1828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people ask questions in an interview to learn more about someone or some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s help you find out about a per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ations begin with words lik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end with a question mar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interview ques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Ugh! A Bug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phthong /ng/ ng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-Controlled Vowel -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74960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has the /or/ sound, you hold up your thumb in front of your chest and say /or/.  When I say a word that does not begin with /or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35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or/ o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952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or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762120"/>
            <a:ext cx="525780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5:08Z</dcterms:modified>
  <cp:revision>79</cp:revision>
  <dc:subject/>
  <dc:title>Slide 1</dc:title>
</cp:coreProperties>
</file>