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10.png" ContentType="image/png"/>
  <Override PartName="/ppt/media/image2.jpeg" ContentType="image/jpeg"/>
  <Override PartName="/ppt/media/image3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1D32-1D2C-47D3-96E5-D5E5CE414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1D11-5943-42FE-9EF6-35E9A8A56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14E0-CB50-4B4F-8AAA-9A757F596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513D-1AFF-4FF0-9F3B-D19234D34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ECFA-DA52-4DC0-B5C0-1F7460053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5A17-C0DD-4437-8F2B-9CA2E6EF9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367C-E125-451B-9620-FDA0FB52B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78E3-BC35-49E4-AB5D-37697B5AA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4579-B84C-493C-BB8D-3B31F7294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923B-B34D-42FD-B4CD-A914FF9D4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EC69-B4E6-4543-80B0-94A7D8BE5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3E1A-DC90-4955-9D53-4DCF06820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72135-1585-49B7-82C0-25E5D3CB86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MSj03885490000%5B1%5D.wav" TargetMode="External"/><Relationship Id="rId2" Type="http://schemas.microsoft.com/office/2007/relationships/media" Target="file:///tmp/home/.config/libreoffice/4/user/gallery/MSj03885490000%5B1%5D.wav" TargetMode="External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8305560" cy="6568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209680" y="38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ri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vember 7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sson 11, Day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id lives in the North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 likes all sport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620120" y="0"/>
            <a:ext cx="1523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se letter-sound knowledge to read decodab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To develop fluen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0000"/>
                </a:solidFill>
                <a:uFillTx/>
                <a:latin typeface="Arial"/>
              </a:rPr>
              <a:t>Words to Kno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iv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w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now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620120" y="0"/>
            <a:ext cx="15238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ad high-frequency words.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5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7" dur="500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all Grou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called go to your first rotati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0"/>
            <a:ext cx="1523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se letter-sound knowledge to read decodab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To develop fluen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4" dur="2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9" dur="20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4" dur="20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9" dur="2000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etelling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838080"/>
            <a:ext cx="8534520" cy="1295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48320" y="2133720"/>
            <a:ext cx="0" cy="3808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391520" y="0"/>
            <a:ext cx="1752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practice retelling a stor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09480" y="914400"/>
            <a:ext cx="81536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7200" y="2514600"/>
            <a:ext cx="8305920" cy="1676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9480" y="26668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d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33520" y="4648320"/>
            <a:ext cx="8305560" cy="18288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4191120"/>
            <a:ext cx="0" cy="45720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62120" y="4724280"/>
            <a:ext cx="76960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0" y="1066320"/>
            <a:ext cx="91440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ild Horse Winter”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523880" y="304920"/>
            <a:ext cx="632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Read Aloud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620120" y="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nderstand characteristics of folkta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752480" y="2590920"/>
            <a:ext cx="5181840" cy="40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40044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381880" cy="52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Robust Vocabul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zzl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anc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857920" y="1625400"/>
            <a:ext cx="3044880" cy="480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3564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If an animal nuzzled against you, it would be rubbing you with its face or nos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4197240" cy="12762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214200"/>
            <a:ext cx="436716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nuzzled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6554880" y="536400"/>
            <a:ext cx="214200" cy="2145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608040" y="1339920"/>
            <a:ext cx="3441600" cy="51433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190" dur="indefinite" restart="never" nodeType="tmRoot">
          <p:childTnLst>
            <p:seq>
              <p:cTn id="191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192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5" dur="1627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05"/>
                </p:tgtEl>
              </p:cMediaNode>
            </p:audio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776680" y="258840"/>
            <a:ext cx="3590640" cy="12780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684160" y="339840"/>
            <a:ext cx="3784680" cy="707760"/>
          </a:xfrm>
          <a:prstGeom prst="rect">
            <a:avLst/>
          </a:prstGeom>
          <a:noFill/>
          <a:ln w="0">
            <a:noFill/>
          </a:ln>
        </p:spPr>
        <p:txBody>
          <a:bodyPr lIns="90000" rIns="3564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anc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340320" y="1714680"/>
            <a:ext cx="2554560" cy="42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If you pranced around, you would be walking in a bouncy, springy way, like a horse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46040" y="1874880"/>
            <a:ext cx="5411880" cy="36068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500040" y="0"/>
            <a:ext cx="7715160" cy="24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When something is raging, it is happening in a strong or out-of-control way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554800" y="2209680"/>
            <a:ext cx="3589200" cy="127656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486400" y="2362320"/>
            <a:ext cx="391968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raging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2517840"/>
            <a:ext cx="6108840" cy="40780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467120" y="228240"/>
            <a:ext cx="1676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introduce special names and titl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83818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n Smith likes hors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r. Hill has a hors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horse’s name is Muff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r. Chin is a ve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28600" y="152280"/>
            <a:ext cx="7162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Special Names and Tit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009920" y="-3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listen and respond appropriately to oral communica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Question of the Da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hink of a bug that you have seen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hat color was it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hat part of its body helped it mov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he bug I looked at was 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t used its _________ to 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7772400" y="0"/>
            <a:ext cx="1371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bjective: To introduce special names and tit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371680" y="0"/>
            <a:ext cx="4714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7315200" y="0"/>
            <a:ext cx="1828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understand that people ask questions in an interview to learn more about someone or some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990720" y="0"/>
            <a:ext cx="6400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Interview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questions help you find out about a perso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otations begin with words like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Who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Wha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Whe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Wher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Why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How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estions end with a question mark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553080" y="152280"/>
            <a:ext cx="2590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a list of criteria for effective interview ques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eate Interview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010280" y="1522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choose a focus for writi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238880" y="-360"/>
            <a:ext cx="19051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the ability to listen for a purpos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44480" y="1600200"/>
            <a:ext cx="3462480" cy="45259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495680" y="2133720"/>
            <a:ext cx="381024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ad Aloud –             “Ugh! A Bug!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67120" y="-360"/>
            <a:ext cx="16765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 - To rea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520" y="2282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Word Wall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you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oes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od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1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1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" dur="10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" dur="10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" dur="10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" dur="10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86240" y="0"/>
            <a:ext cx="2057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lend phonemes into recognizable words; to segment phonemes in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304560"/>
            <a:ext cx="5181480" cy="60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Phonemic Awarenes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hone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Blending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gment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181480" y="1066680"/>
            <a:ext cx="363240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781680" y="0"/>
            <a:ext cx="2362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cognize and generate the  sound of the diphthong /ng/ ng.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65040" y="417600"/>
            <a:ext cx="855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228600"/>
            <a:ext cx="8458200" cy="17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R-Controlled Vowel -o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72000" y="1749600"/>
            <a:ext cx="43434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I say a word that has the /or/ sound, you hold up your thumb in front of your chest and say /or/.  When I say a word that does not begin with /or/, put your thumb dow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28600" y="1447920"/>
            <a:ext cx="42354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ord Blend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95480" y="1219320"/>
            <a:ext cx="1447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315200" y="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uild and blend words with /or/ or and other known letter-sou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33920" y="1219320"/>
            <a:ext cx="9903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267080" y="1219320"/>
            <a:ext cx="1295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343400" y="2438280"/>
            <a:ext cx="1371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733920" y="2438280"/>
            <a:ext cx="9903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048120" y="2438280"/>
            <a:ext cx="9903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19720" y="3657600"/>
            <a:ext cx="12189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733920" y="3657600"/>
            <a:ext cx="9903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495680" y="4952880"/>
            <a:ext cx="11430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657600" y="4952880"/>
            <a:ext cx="990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971800" y="4952880"/>
            <a:ext cx="990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895480" y="365760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3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8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3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8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3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8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3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8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8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ord Building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315200" y="0"/>
            <a:ext cx="18288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use /or/ or and other known letter-sounds to spell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905120" y="762120"/>
            <a:ext cx="5257800" cy="60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for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form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more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store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1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10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pelling Word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hen called go to your seat and label the paper with your name and date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t’s time to take our spelling pretest!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467480" y="0"/>
            <a:ext cx="16765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spell spelling words an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01:35:05Z</dcterms:created>
  <dc:creator>Carey Dailey</dc:creator>
  <dc:description/>
  <dc:language>en-US</dc:language>
  <cp:lastModifiedBy>Carey Dailey</cp:lastModifiedBy>
  <dcterms:modified xsi:type="dcterms:W3CDTF">2008-11-22T04:05:08Z</dcterms:modified>
  <cp:revision>79</cp:revision>
  <dc:subject/>
  <dc:title>Slide 1</dc:title>
</cp:coreProperties>
</file>