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F1BF-7BFB-426B-9ADF-728799341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4E2A-F9F2-4016-B7CB-CE65DCF78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3C31-DF3D-4EBC-862B-3D5756100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D05D-98A4-4978-9840-FC679C618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456B-AD71-48A6-AD71-090C288CD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2953-4CF0-41BA-9EC0-D1B327A55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1E0B-BBC0-4E85-A89F-CF2DF170B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0B68-B494-436F-8759-1B3D7E007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6275-6FF9-4620-BF47-07FC11A38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A87B-96DF-4261-BB54-D66FCA277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3998-4114-4D27-BFA5-1481B0B84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9FF7-E968-4EDB-B538-FA60EA491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7993-A139-4609-89F4-35FCA329F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0930-17E3-46FC-B1BC-F835A2E60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9127-661A-4E35-95D4-DE047A32D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, every, their, from, does, use, way, under, here, ma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29D9-19C1-4F0F-8E42-BFBD2407B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A20C-10EC-4617-8D7D-B0BF8C6D8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CF3F-FCEC-42CF-8008-474A83C47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E80E-377B-48B5-B86D-12C358784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, song, sing, ring, bring, thing, us, must, does,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BB14-9E99-4D23-80E4-38B5A3BDA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736E-595C-4A9C-9297-A7E6CEE83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45E2-0267-4AD5-AFA8-A3906F6D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D15B-F3D3-471A-ACFC-25A60E20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4E4E-135D-4D2E-8B30-76B29EAEC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D776-ECCE-4BBA-AC46-B34254A5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D4CB-AAD8-42F1-8409-E048B176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1DFD-5B46-4FB5-A8DB-EA5CB5E0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36AC-416D-4CB9-B4A3-1AC5CC85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969A-6AFA-4192-BB20-A2F2A027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B05E-31A9-4B09-8870-FD6C9E3C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D229-0ABA-437B-AEC8-F70041CC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A3F1-D925-4E6C-8BAC-860C2B98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1CB3-5811-4A47-86EF-18419E93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0A07-26A6-47B5-ABD4-DC9D88600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ontent.thinkcentral.com/content/hsp/reading/storytown/na/gr1/se_9780153597732_/grade1/shell.html?grade=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fes.tpc.edu.tw/board/abc-song/london.swf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vember 10,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1,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honics Ski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Let’s click on the “or” word, “corn” </a:t>
            </a:r>
            <a:r>
              <a:rPr b="0" lang="en-US" sz="4800" spc="-1" strike="noStrike">
                <a:solidFill>
                  <a:srgbClr val="92d050"/>
                </a:solidFill>
                <a:latin typeface="Comic Sans MS"/>
              </a:rPr>
              <a:t>to go to thinkcentral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words containing  /or/ and /ore/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lost_dog_el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828800"/>
            <a:ext cx="3571920" cy="29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veuse"/>
              </a:rPr>
              <a:t>Word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575d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575d1"/>
                </a:solidFill>
                <a:latin typeface="Comic Sans MS"/>
              </a:rPr>
              <a:t>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the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6629400" y="571500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 To read high-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IMGP3219-718608.jpg"/>
          <p:cNvPicPr/>
          <p:nvPr/>
        </p:nvPicPr>
        <p:blipFill>
          <a:blip r:embed="rId1"/>
          <a:stretch/>
        </p:blipFill>
        <p:spPr>
          <a:xfrm>
            <a:off x="3276720" y="9907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4400" spc="-1" strike="noStrike">
                <a:solidFill>
                  <a:srgbClr val="7575d1"/>
                </a:solidFill>
                <a:latin typeface="Aharoni"/>
                <a:ea typeface="Aharoni"/>
              </a:rPr>
              <a:t>Land of 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Today’s story is about a very cold place called Antarctica.   Antarctica is a beautiful place which is covered in ice.  Some animals that live in or near Antarctica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octo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pengu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sea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s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267080" y="3505320"/>
            <a:ext cx="4648320" cy="1752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haroni"/>
                <a:ea typeface="Aharoni"/>
              </a:rPr>
              <a:t>Some animals that live in cold places have fur to keep them warm.  The seal is an animal that has f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6324480" y="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 To apply word knowledge to the reading of a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Content Placeholder 4" descr="antarcz.gif"/>
          <p:cNvPicPr/>
          <p:nvPr/>
        </p:nvPicPr>
        <p:blipFill>
          <a:blip r:embed="rId1"/>
          <a:stretch/>
        </p:blipFill>
        <p:spPr>
          <a:xfrm>
            <a:off x="304920" y="838080"/>
            <a:ext cx="3676680" cy="36673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0" i="1" lang="en-US" sz="4400" spc="-1" strike="noStrike">
                <a:solidFill>
                  <a:srgbClr val="cc3300"/>
                </a:solidFill>
                <a:latin typeface="Comic Sans MS"/>
              </a:rPr>
              <a:t>Land of 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4571640"/>
            <a:ext cx="4724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Land of Ic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a nonfiction story.  We can fill in a story web with information we learn from the 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182_20.gif"/>
          <p:cNvPicPr/>
          <p:nvPr/>
        </p:nvPicPr>
        <p:blipFill>
          <a:blip r:embed="rId2"/>
          <a:stretch/>
        </p:blipFill>
        <p:spPr>
          <a:xfrm>
            <a:off x="4267080" y="1295280"/>
            <a:ext cx="4388040" cy="40608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6"/>
          <p:cNvSpPr/>
          <p:nvPr/>
        </p:nvSpPr>
        <p:spPr>
          <a:xfrm>
            <a:off x="5562720" y="28954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cts from “Land of 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6477120" y="0"/>
            <a:ext cx="266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 To use a story web as a strategy for comprehension of a non-fiction s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1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1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6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3300"/>
                </a:solidFill>
                <a:latin typeface="Arial"/>
              </a:rPr>
              <a:t>Land of 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6705720" y="0"/>
            <a:ext cx="2438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use a story web as a strategy for comprehension of a non-fiction selec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575d1"/>
                </a:solidFill>
                <a:latin typeface="Arial"/>
              </a:rPr>
              <a:t>Now that we have all read Land of Ice, let’s flip back to the story web and fill in information we learned from the sto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haroni"/>
                <a:ea typeface="Aharoni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nuzz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pranc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r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>
            <a:off x="533520" y="304920"/>
            <a:ext cx="3590640" cy="127764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3200400" cy="70776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omic Sans MS"/>
              </a:rPr>
              <a:t>nuzzle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172200" y="838080"/>
            <a:ext cx="2554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an animal 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nuzzle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gainst you, it would be rubbing you with its face or no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MPj04331970000[1]"/>
          <p:cNvPicPr/>
          <p:nvPr/>
        </p:nvPicPr>
        <p:blipFill>
          <a:blip r:embed="rId1"/>
          <a:stretch/>
        </p:blipFill>
        <p:spPr>
          <a:xfrm>
            <a:off x="569880" y="1905120"/>
            <a:ext cx="5513400" cy="41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4419720" y="304920"/>
            <a:ext cx="42321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f you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pranced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around, you would be walking in a bouncy, springy way, like a hors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380880" y="380880"/>
            <a:ext cx="359100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228600" y="380880"/>
            <a:ext cx="39196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c00000"/>
                </a:solidFill>
                <a:latin typeface="Comic Sans MS"/>
              </a:rPr>
              <a:t>pranc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think.bmp"/>
          <p:cNvPicPr/>
          <p:nvPr/>
        </p:nvPicPr>
        <p:blipFill>
          <a:blip r:embed="rId1"/>
          <a:stretch/>
        </p:blipFill>
        <p:spPr>
          <a:xfrm>
            <a:off x="380880" y="2008080"/>
            <a:ext cx="4019760" cy="29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0" y="380520"/>
            <a:ext cx="3911760" cy="569772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n something is </a:t>
            </a:r>
            <a:r>
              <a:rPr b="0" lang="en-US" sz="4400" spc="-1" strike="noStrike">
                <a:solidFill>
                  <a:srgbClr val="c00000"/>
                </a:solidFill>
                <a:latin typeface="Comic Sans MS"/>
              </a:rPr>
              <a:t>rag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, it is happening in a strong or out-of-control w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304920" y="533520"/>
            <a:ext cx="359064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304920" y="533520"/>
            <a:ext cx="33829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c00000"/>
                </a:solidFill>
                <a:latin typeface="Comic Sans MS"/>
              </a:rPr>
              <a:t>raging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MPj01788450000[1]"/>
          <p:cNvPicPr/>
          <p:nvPr/>
        </p:nvPicPr>
        <p:blipFill>
          <a:blip r:embed="rId1"/>
          <a:stretch/>
        </p:blipFill>
        <p:spPr>
          <a:xfrm>
            <a:off x="309600" y="2133720"/>
            <a:ext cx="4830840" cy="33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do you think it is like deep in the ocean?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________ lives in the ocean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It is 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Picture1.jpg"/>
          <p:cNvPicPr/>
          <p:nvPr/>
        </p:nvPicPr>
        <p:blipFill>
          <a:blip r:embed="rId1"/>
          <a:stretch/>
        </p:blipFill>
        <p:spPr>
          <a:xfrm>
            <a:off x="5105520" y="2743200"/>
            <a:ext cx="3595680" cy="3595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304920" y="685440"/>
            <a:ext cx="7162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Let’s learn how to write interview questions.  Thin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of someone who works here at Stemley.  It could b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teacher, the librarian, the custodian, the secretary,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anyone who has a job here.  Decide which questions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would ask that person if you wanted to interview him/he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Here are some ide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73"/>
                </a:solidFill>
                <a:latin typeface="Comic Sans MS"/>
              </a:rPr>
              <a:t>What is your job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73"/>
                </a:solidFill>
                <a:latin typeface="Comic Sans MS"/>
              </a:rPr>
              <a:t>What do you like best about your job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Think of one or two more questions and write them d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6553080" y="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6400800" y="0"/>
            <a:ext cx="2743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 To compose effective interview questions; to brainstorm before writing; to punctuate questions correc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MPj04394050000[1]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4495680" y="1371600"/>
            <a:ext cx="3810240" cy="63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73"/>
                </a:solidFill>
                <a:latin typeface="Arial"/>
              </a:rPr>
              <a:t>Read Aloud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62673"/>
                </a:solidFill>
                <a:latin typeface="Arial"/>
              </a:rPr>
              <a:t>W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62673"/>
                </a:solidFill>
                <a:latin typeface="Arial"/>
              </a:rPr>
              <a:t>Dow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62673"/>
                </a:solidFill>
                <a:latin typeface="Arial"/>
              </a:rPr>
              <a:t>D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457200" y="838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Big Book of Rhymes and Po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Week’s Sight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6858000" y="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C:\Users\Janice\AppData\Local\Microsoft\Windows\Temporary Internet Files\Content.IE5\CVW5V2AD\MPj04286580000[1]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1447920"/>
            <a:ext cx="5329080" cy="35528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38880" y="0"/>
            <a:ext cx="19051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egment phonemes in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900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Phoneme Seg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1066680" y="4952880"/>
            <a:ext cx="65534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London Bridge Was Falling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haroni"/>
                <a:ea typeface="Aharoni"/>
              </a:rPr>
              <a:t>Let’s click on the bridge to hear the so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C:\Users\Janice\AppData\Local\Microsoft\Windows\Temporary Internet Files\Content.IE5\AETH7CGB\MCj03793990000[1].wmf"/>
          <p:cNvPicPr/>
          <p:nvPr/>
        </p:nvPicPr>
        <p:blipFill>
          <a:blip r:embed="rId3"/>
          <a:stretch/>
        </p:blipFill>
        <p:spPr>
          <a:xfrm>
            <a:off x="685800" y="4952880"/>
            <a:ext cx="957240" cy="1192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Users\Janice\AppData\Local\Microsoft\Windows\Temporary Internet Files\Content.IE5\AETH7CGB\MCj03793990000[1].wmf"/>
          <p:cNvPicPr/>
          <p:nvPr/>
        </p:nvPicPr>
        <p:blipFill>
          <a:blip r:embed="rId4"/>
          <a:stretch/>
        </p:blipFill>
        <p:spPr>
          <a:xfrm>
            <a:off x="7315200" y="5029200"/>
            <a:ext cx="957240" cy="11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2" descr="C:\Users\Janice\AppData\Local\Microsoft\Windows\Temporary Internet Files\Content.IE5\CVW5V2AD\MCj03974940000[1].wmf"/>
          <p:cNvPicPr/>
          <p:nvPr/>
        </p:nvPicPr>
        <p:blipFill>
          <a:blip r:embed="rId1"/>
          <a:stretch/>
        </p:blipFill>
        <p:spPr>
          <a:xfrm>
            <a:off x="5257800" y="380880"/>
            <a:ext cx="2438280" cy="59436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egment words into phonemes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228600" y="22860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Let’s S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0" y="1143000"/>
            <a:ext cx="563868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Comic Sans MS"/>
              </a:rPr>
              <a:t>You will sing a song and say the sounds that make up each word.  Sing to the tune of “London Bridge is Falling Dow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Can you say the sounds in bug, 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n bug, sounds in bug?  Can you 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the sounds in bug?  Yes,  we can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/b/ /u/ /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6400800" y="533520"/>
            <a:ext cx="2743200" cy="65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f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co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mo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sno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p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sho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to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990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7315200" y="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or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457200" y="1219320"/>
            <a:ext cx="457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914400" y="236232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685800" y="2362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04920" y="2362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990720" y="3429000"/>
            <a:ext cx="2209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380880" y="3429000"/>
            <a:ext cx="99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304920" y="45720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457200" y="45720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228600" y="45720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4343400" y="16002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9"/>
          <p:cNvSpPr/>
          <p:nvPr/>
        </p:nvSpPr>
        <p:spPr>
          <a:xfrm>
            <a:off x="4800600" y="16002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5105520" y="1600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4191120" y="25146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4800600" y="25146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5029200" y="251460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8"/>
          <p:cNvSpPr/>
          <p:nvPr/>
        </p:nvSpPr>
        <p:spPr>
          <a:xfrm>
            <a:off x="5334120" y="16002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5"/>
          <p:cNvSpPr/>
          <p:nvPr/>
        </p:nvSpPr>
        <p:spPr>
          <a:xfrm>
            <a:off x="838080" y="121932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1600200" y="12193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0"/>
          <p:cNvSpPr/>
          <p:nvPr/>
        </p:nvSpPr>
        <p:spPr>
          <a:xfrm>
            <a:off x="7315200" y="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or/ , /ore/, and other known letter-sounds to spell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Word Building</a:t>
            </a: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Building Spelling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1066680" y="1371600"/>
            <a:ext cx="3200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f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for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mo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sto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181480" y="1447920"/>
            <a:ext cx="243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l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b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y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h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Inside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838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Forget 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b050"/>
                </a:solidFill>
                <a:latin typeface="Aharoni"/>
                <a:ea typeface="Aharoni"/>
              </a:rPr>
              <a:t>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Forgive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b050"/>
                </a:solidFill>
                <a:latin typeface="Aharoni"/>
                <a:ea typeface="Aharoni"/>
              </a:rPr>
              <a:t>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Forest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b050"/>
                </a:solidFill>
                <a:latin typeface="Aharoni"/>
                <a:ea typeface="Aharoni"/>
              </a:rPr>
              <a:t>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Forgot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b050"/>
                </a:solidFill>
                <a:latin typeface="Aharoni"/>
                <a:ea typeface="Aharoni"/>
              </a:rPr>
              <a:t>g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haroni"/>
                <a:ea typeface="Aharoni"/>
              </a:rPr>
              <a:t>When you see a long word that l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haroni"/>
                <a:ea typeface="Aharoni"/>
              </a:rPr>
              <a:t>hard to read, see if there are little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haroni"/>
                <a:ea typeface="Aharoni"/>
              </a:rPr>
              <a:t>inside the big word that are easier to read.  Then put those words together and you’ve just read that LONG wor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7467480" y="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 To use the “word within a word” technique to improve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Janice Wagnon</cp:lastModifiedBy>
  <dcterms:modified xsi:type="dcterms:W3CDTF">2008-11-09T23:02:10Z</dcterms:modified>
  <cp:revision>158</cp:revision>
  <dc:subject/>
  <dc:title>Slide 1</dc:title>
</cp:coreProperties>
</file>