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29C4-C648-497E-AE09-EEFC1D88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19FC-9A4A-4C30-A696-CD291A93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2583-A8CA-42E3-9897-0590B78A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C9D7-5780-4E91-A6EC-D06EB3D6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61B-4D41-4175-AF18-F4BDC8F39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770C-2893-4F8B-B416-55101FD3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3D36-B8A5-4288-8F91-5EB1F45B2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0FB7-0E7F-4AC7-B97E-942FC04F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5442-1A8D-4E20-85A1-FB833E13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A5E5-3D9B-43FC-99AA-561BE87A0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604F-47D4-4783-A636-0E985CFB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477-7EF9-4B22-9460-D378389A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7AA-9410-4ED0-8EEF-C3E573038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4A5-8980-4FDE-BB9E-75134FDA1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5B41-485C-403B-88A7-A2316507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, every, their, from, does, use, way, under, here, 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510A-C5BA-4FAC-9515-AED6E890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9309-98E1-47BE-B689-03470B5C3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79AD-2444-4660-8CAD-1D7C4901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079B-268C-410E-B595-213D713E4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8B9C-608A-4BC6-8007-D4780121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FC6D-F170-47D4-9432-0D8520E7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690-6CB5-4081-8776-93B0A49E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EFD-172D-44C4-9722-DAF1D47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AD4-F464-446F-83B8-19201FAD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655-CCB6-4332-8CF7-066325C1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515-F02B-447D-BBBF-2CE6B821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46A-A5E8-44A7-A67C-1742718D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4A8-56CC-41F4-B090-1C2F934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422-4A8E-43C4-B88A-8662346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E7C-9AFC-4357-A522-F448920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589-2708-49DC-9C4D-1778C3B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B93-28F2-4F57-94A5-6016598D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CB3-D2BD-4C1E-8DFB-C2CD0E2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46CE-0699-4389-A05E-7BF10BAD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fes.tpc.edu.tw/board/abc-song/london.sw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honics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et’s click on the “or” word, “corn” </a:t>
            </a:r>
            <a:r>
              <a:rPr b="0" lang="en-US" sz="4800" spc="-1" strike="noStrike">
                <a:solidFill>
                  <a:srgbClr val="92d050"/>
                </a:solidFill>
                <a:latin typeface="Comic Sans MS"/>
              </a:rPr>
              <a:t>to go to thinkcentral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words containing  /or/ and /ore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ost_dog_e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57192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GP3219-718608.jpg"/>
          <p:cNvPicPr/>
          <p:nvPr/>
        </p:nvPicPr>
        <p:blipFill>
          <a:blip r:embed="rId1"/>
          <a:stretch/>
        </p:blipFill>
        <p:spPr>
          <a:xfrm>
            <a:off x="3276720" y="9907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7575d1"/>
                </a:solidFill>
                <a:latin typeface="Aharoni"/>
                <a:ea typeface="Aharoni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oday’s story is about a very cold place called Antarctica.   Antarctica is a beautiful place which is covered in ice.  Some animals that live in or near Antarctic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e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267080" y="3505320"/>
            <a:ext cx="46483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haroni"/>
                <a:ea typeface="Aharoni"/>
              </a:rPr>
              <a:t>Some animals that live in cold places have fur to keep them warm.  The seal is an animal that has f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324480" y="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 To apply word knowledge to the reading of a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antarcz.gif"/>
          <p:cNvPicPr/>
          <p:nvPr/>
        </p:nvPicPr>
        <p:blipFill>
          <a:blip r:embed="rId1"/>
          <a:stretch/>
        </p:blipFill>
        <p:spPr>
          <a:xfrm>
            <a:off x="304920" y="838080"/>
            <a:ext cx="367668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45716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nd of I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nonfiction story.  We can fill in a story web with information we learn from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82_20.gif"/>
          <p:cNvPicPr/>
          <p:nvPr/>
        </p:nvPicPr>
        <p:blipFill>
          <a:blip r:embed="rId2"/>
          <a:stretch/>
        </p:blipFill>
        <p:spPr>
          <a:xfrm>
            <a:off x="4267080" y="1295280"/>
            <a:ext cx="4388040" cy="4060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5562720" y="2895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cts from “Land of 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477120" y="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se a story web as a strategy for comprehension of a non-fiction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Arial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6705720" y="0"/>
            <a:ext cx="2438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a story web as a strategy for comprehension of a non-fiction sel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Now that we have all read Land of Ice, let’s flip back to the story web and fill in information we learned from the s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nuzz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533520" y="304920"/>
            <a:ext cx="3590640" cy="127764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320040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nuzzle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72200" y="838080"/>
            <a:ext cx="2554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 animal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nuzzl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gainst you, it would be rubbing you with its face or n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Pj04331970000[1]"/>
          <p:cNvPicPr/>
          <p:nvPr/>
        </p:nvPicPr>
        <p:blipFill>
          <a:blip r:embed="rId1"/>
          <a:stretch/>
        </p:blipFill>
        <p:spPr>
          <a:xfrm>
            <a:off x="569880" y="1905120"/>
            <a:ext cx="551340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419720" y="3049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pranc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round, you would be walking in a bouncy, springy way, like a hor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80880" y="380880"/>
            <a:ext cx="359100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28600" y="38088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c00000"/>
                </a:solidFill>
                <a:latin typeface="Comic Sans MS"/>
              </a:rPr>
              <a:t>pran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think.bmp"/>
          <p:cNvPicPr/>
          <p:nvPr/>
        </p:nvPicPr>
        <p:blipFill>
          <a:blip r:embed="rId1"/>
          <a:stretch/>
        </p:blipFill>
        <p:spPr>
          <a:xfrm>
            <a:off x="380880" y="2008080"/>
            <a:ext cx="401976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0" y="380520"/>
            <a:ext cx="3911760" cy="56977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something is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rag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it is happening in a strong or out-of-control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5335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04920" y="53352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c00000"/>
                </a:solidFill>
                <a:latin typeface="Comic Sans MS"/>
              </a:rPr>
              <a:t>rag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MPj01788450000[1]"/>
          <p:cNvPicPr/>
          <p:nvPr/>
        </p:nvPicPr>
        <p:blipFill>
          <a:blip r:embed="rId1"/>
          <a:stretch/>
        </p:blipFill>
        <p:spPr>
          <a:xfrm>
            <a:off x="309600" y="2133720"/>
            <a:ext cx="4830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 you think it is like deep in the ocean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________ lives in the ocea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t is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Picture1.jpg"/>
          <p:cNvPicPr/>
          <p:nvPr/>
        </p:nvPicPr>
        <p:blipFill>
          <a:blip r:embed="rId1"/>
          <a:stretch/>
        </p:blipFill>
        <p:spPr>
          <a:xfrm>
            <a:off x="5105520" y="2743200"/>
            <a:ext cx="3595680" cy="35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4920" y="68544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Let’s learn how to write interview questions.  Th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of someone who works here at Stemley.  It could b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eacher, the librarian, the custodian, the secretary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anyone who has a job here.  Decide which question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would ask that person if you wanted to interview him/h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Here are some 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Comic Sans MS"/>
              </a:rPr>
              <a:t>What do you like best about your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ink of one or two more questions and write them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553080" y="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400800" y="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1371600"/>
            <a:ext cx="38102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D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D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Janice\AppData\Local\Microsoft\Windows\Temporary Internet Files\Content.IE5\CVW5V2AD\MPj04286580000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5329080" cy="3552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66680" y="4952880"/>
            <a:ext cx="6553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London Bridge Was Fall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haroni"/>
                <a:ea typeface="Aharoni"/>
              </a:rPr>
              <a:t>Let’s click on the bridge to hear the so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Janice\AppData\Local\Microsoft\Windows\Temporary Internet Files\Content.IE5\AETH7CGB\MCj03793990000[1].wmf"/>
          <p:cNvPicPr/>
          <p:nvPr/>
        </p:nvPicPr>
        <p:blipFill>
          <a:blip r:embed="rId3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Janice\AppData\Local\Microsoft\Windows\Temporary Internet Files\Content.IE5\AETH7CGB\MCj03793990000[1].wmf"/>
          <p:cNvPicPr/>
          <p:nvPr/>
        </p:nvPicPr>
        <p:blipFill>
          <a:blip r:embed="rId4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1143000"/>
            <a:ext cx="5638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London Bridge is Falling 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n you say the sounds in bug,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 bug, sounds in bug?  Ca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e sounds in bug?  Yes,  we ca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/b/ /u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533520"/>
            <a:ext cx="2743200" cy="65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c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n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91440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6858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049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990720" y="3429000"/>
            <a:ext cx="2209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04920" y="45720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28600" y="4572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80060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51055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48006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5029200" y="25146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33412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838080" y="1219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16002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ord Building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Building Spell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66680" y="137160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81480" y="1447920"/>
            <a:ext cx="243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l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b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y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sid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838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et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ot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When you see a long word that l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hard to read, see if there are litt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inside the big word that are easier to read.  Then put those words together and you’ve just read that LONG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467480" y="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se the “word within a word” technique to improve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09T23:02:10Z</dcterms:modified>
  <cp:revision>158</cp:revision>
  <dc:subject/>
  <dc:title>Slide 1</dc:title>
</cp:coreProperties>
</file>