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FDD-56AA-4DE2-BA2D-4E5EA82A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E05-D1D2-4633-BA75-C3509E6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529-D094-4BA8-80DF-3F38642F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E10-0C55-4CA8-8D00-9128C582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B9F-A5BD-467A-BDD7-0CD17389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0D9-D173-4E4B-8E6B-8BFACA8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91A-39A9-42A8-88B5-03D6E1C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82A-1ADB-4135-A5FF-2F7E125F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A68-7612-4CBD-BEE7-E39B156B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BF5-CCB2-4ABB-82B1-A3D44FD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042-FAB9-42E8-85E6-80E8E1F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DE2-1819-427E-9C31-3601D41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344-FB53-48A3-A2EF-51392ACB2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inkcentral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vie%20screen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205740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vember 12,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Lesson 11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adap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trigu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hab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pecial Names and Titles for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ar mrs washingt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e read the story “Land of Ice.” It is by mr norbert wu.  We really liked the pengu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ncere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__________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correctly capitalize and punctuate special names and titles for 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marks at the end of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words such as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ho, what, when, where, why, and 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capital letters that begin names and tit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periods at the end of tit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28600"/>
            <a:ext cx="4952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ink of something you found intrigu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Land of Ice.” Turn and talk with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artner and tell them questions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bout it.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Draw a picture from “Land of I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that you found intriguing. Then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questions you might have about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52280"/>
            <a:ext cx="419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do you like to do in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I like to __________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because 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324480" y="152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ad Alou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y Down Deep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ce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98720" cy="361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7010280" y="304920"/>
            <a:ext cx="1905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29400" y="228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uffin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267080" cy="3210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81680" y="380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-Controlled Vowel /or/ or, 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Doris got a pot of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n Doris got a for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I will eat the corn in my fort,” Doris sai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But Spot wants corn, to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top, Spot!” yelled Dori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pot eats the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Now Doris and Dad will go to the sto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y will get more corn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y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0"/>
          <p:cNvSpPr/>
          <p:nvPr/>
        </p:nvSpPr>
        <p:spPr>
          <a:xfrm>
            <a:off x="6858000" y="30492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/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penguin for thinkcentral.c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nguin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22860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s- To listen and compare texts; review compare and contrast; understand features of poetry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2:41:39Z</dcterms:created>
  <dc:creator>Federated Group</dc:creator>
  <dc:description/>
  <dc:language>en-US</dc:language>
  <cp:lastModifiedBy>Federated Group</cp:lastModifiedBy>
  <dcterms:modified xsi:type="dcterms:W3CDTF">2008-11-12T03:30:35Z</dcterms:modified>
  <cp:revision>4</cp:revision>
  <dc:subject/>
  <dc:title> </dc:title>
</cp:coreProperties>
</file>