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08F-5F67-42AA-A887-98E5F7FD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FE1-B2BD-4FA4-BC7A-0F1658EE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906-0213-4048-BBEA-E4B2524A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3B9-BF59-4899-9E32-FB8ED8E3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DB9-D39B-408D-A834-6687D8F7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041-A9F2-4FF3-9A03-4E45FBEC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95A-297B-42BA-8B56-298059CA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4A8-F371-49B3-A827-061D707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FE6-119B-413F-8F04-24F9E79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844-1AE3-4BB9-8E04-81578E5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E47B-D361-4EFB-8E9E-CF9C0F9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160-E42A-4807-BCA9-8CE0B2F7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7D21-FC15-4101-9C2A-223BF3418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inkcentral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vie%20screen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205740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vember 12,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Lesson 11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adap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trigu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hab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pecial Names and Titles for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ar mrs washingt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e read the story “Land of Ice.” It is by mr norbert wu.  We really liked the pengu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ncere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__________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correctly capitalize and punctuate special names and titles for 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marks at the end of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words such as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ho, what, when, where, why, and 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capital letters that begin names and tit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periods at the end of tit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28600"/>
            <a:ext cx="4952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ink of something you found intrigu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Land of Ice.” Turn and talk with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artner and tell them questions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bout it.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Draw a picture from “Land of I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that you found intriguing. Then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questions you might have about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52280"/>
            <a:ext cx="419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do you like to do in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I like to __________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because 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324480" y="152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ad Alou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y Down Deep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ce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98720" cy="361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7010280" y="304920"/>
            <a:ext cx="1905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29400" y="228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uffin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267080" cy="3210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81680" y="380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-Controlled Vowel /or/ or, 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Doris got a pot of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n Doris got a for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I will eat the corn in my fort,” Doris sai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But Spot wants corn, to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top, Spot!” yelled Dori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pot eats the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Now Doris and Dad will go to the sto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y will get more corn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y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0"/>
          <p:cNvSpPr/>
          <p:nvPr/>
        </p:nvSpPr>
        <p:spPr>
          <a:xfrm>
            <a:off x="6858000" y="30492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/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penguin for thinkcentral.c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nguin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22860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s- To listen and compare texts; review compare and contrast; understand features of poetry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2:41:39Z</dcterms:created>
  <dc:creator>Federated Group</dc:creator>
  <dc:description/>
  <dc:language>en-US</dc:language>
  <cp:lastModifiedBy>Federated Group</cp:lastModifiedBy>
  <dcterms:modified xsi:type="dcterms:W3CDTF">2008-11-12T03:30:35Z</dcterms:modified>
  <cp:revision>4</cp:revision>
  <dc:subject/>
  <dc:title> </dc:title>
</cp:coreProperties>
</file>