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257A-D218-41C7-A505-43EDCE92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58FE-7C21-4C4A-8FE9-F50752B2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ECDB-26AD-4B42-8FD3-219DE1537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FED7-1F4C-4237-AB24-751643DB6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FC1A-95D5-4B40-8D40-B98975B2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C088-1C16-407E-ACF6-643667D5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5DAD-40DC-44B0-B523-F396CF01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46D1-4A6A-4B0C-8237-B11EE41D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E63F-763E-4751-B0A5-3E16238C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3EA7-DF6C-471E-B255-650E4FFB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5B4B-6350-4F43-9A52-9B3B59FC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140F-990E-4216-91B3-71B6BDEA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7D18-030B-43D1-B3EB-9559FF9B2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ur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vember 13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1, Day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compound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pound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box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3352680"/>
            <a:ext cx="510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andbox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compound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pound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3352680"/>
            <a:ext cx="510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unse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compound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pound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lif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352680"/>
            <a:ext cx="510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forklif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compound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pound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th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3352680"/>
            <a:ext cx="510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ometh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compound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556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uild Wor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or/ or, ore and other known letter-sounds to spell and write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1219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20574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20574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2895480"/>
            <a:ext cx="1218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28954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3809880"/>
            <a:ext cx="1143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38098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3809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28954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44956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4495680"/>
            <a:ext cx="1295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53341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533412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uild Wor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or/ or, ore and other known letter-sounds to spell and write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1219320"/>
            <a:ext cx="1447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20574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20574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91120" y="2895480"/>
            <a:ext cx="1218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28954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495680"/>
            <a:ext cx="1143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3809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809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8954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44956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495680"/>
            <a:ext cx="1295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53341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533412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3809880"/>
            <a:ext cx="1143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53341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067520" y="0"/>
            <a:ext cx="207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high-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9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4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9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4" dur="2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kind of pet do you have or want to hav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y is it specia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 pet _______ can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t is special because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igu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ab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181480" y="2286000"/>
            <a:ext cx="3657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 animal adapts to a place, it had body parts or ways of acting that help it liv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457200"/>
            <a:ext cx="4978440" cy="1467000"/>
          </a:xfrm>
          <a:prstGeom prst="roundRect">
            <a:avLst>
              <a:gd name="adj" fmla="val 10486"/>
            </a:avLst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609480"/>
            <a:ext cx="4876560" cy="1235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mic Sans MS"/>
              </a:rPr>
              <a:t>adapt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934320" y="30492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845820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Comic Sans MS"/>
              </a:rPr>
              <a:t>What would you do to adapt to living on a bo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How would you adapt to living in a ca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Comic Sans MS"/>
              </a:rPr>
              <a:t>How would you adapt if you lived in a place that had lots of r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9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533520"/>
            <a:ext cx="5181480" cy="990360"/>
          </a:xfrm>
          <a:prstGeom prst="roundRect">
            <a:avLst>
              <a:gd name="adj" fmla="val 10486"/>
            </a:avLst>
          </a:prstGeom>
          <a:solidFill>
            <a:srgbClr val="ff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609480"/>
            <a:ext cx="48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igu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609480"/>
            <a:ext cx="30481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think that something is intriguing, you are curious about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5384880" cy="3483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181480" y="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52280"/>
            <a:ext cx="853452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 you think that bugs or penguins are more intriguing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Comic Sans MS"/>
              </a:rPr>
              <a:t>What would your face and body look like if you were looking at something intrigu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Comic Sans MS"/>
              </a:rPr>
              <a:t>What movies have you seen that were intrigu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76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511960" y="1066680"/>
            <a:ext cx="347976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inhabit a place, you live the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533520"/>
            <a:ext cx="3962520" cy="1523880"/>
          </a:xfrm>
          <a:prstGeom prst="roundRect">
            <a:avLst>
              <a:gd name="adj" fmla="val 10486"/>
            </a:avLst>
          </a:prstGeom>
          <a:solidFill>
            <a:srgbClr val="ff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762120"/>
            <a:ext cx="48261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mic Sans MS"/>
              </a:rPr>
              <a:t>inhabit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5029200" cy="37494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486400" y="30492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815328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Would you like to inhabit a house with no roof?  Why or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Comic Sans MS"/>
              </a:rPr>
              <a:t>Would you like to inhabit a world made out of food? Why or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What would it be like to inhabit the mo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5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5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7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67120" y="228240"/>
            <a:ext cx="1676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ntroduce special names and tit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n Smith likes hor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r. Hill has a hor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horse’s name is Muff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. Chin is a v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15228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pecial Names and Tit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792468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Comic Sans MS"/>
              </a:rPr>
              <a:t>Can an animal nuzzle you while it is prancing? Why or 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If a place always had raging storms, would it be a good place to inhabit? Why or 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Comic Sans MS"/>
              </a:rPr>
              <a:t>Name an intriguing animal you have seen.  Why is it so interes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If an animal adapted to life in a snowy place, would it be able to live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4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4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4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1981080"/>
            <a:ext cx="769608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ramma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304920"/>
            <a:ext cx="7619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bjective: To use special names and titles correc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capitalize and punctuate special names and titles correc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3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15192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istinguish between real and make-believ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95680" y="2133720"/>
            <a:ext cx="3810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My Fish Can Ride a Bicycl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187200"/>
            <a:ext cx="7924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 special name or title is the name for a certain person.  Special names and titles begin with capital letters and titles end with a perio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772400" y="0"/>
            <a:ext cx="1371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introduce special names and tit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371680" y="0"/>
            <a:ext cx="471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883908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et’s look at some words and see which ones are special names or ti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Comic Sans MS"/>
              </a:rPr>
              <a:t>d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Comic Sans MS"/>
              </a:rPr>
              <a:t>dr m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Comic Sans MS"/>
              </a:rPr>
              <a:t>a good do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Comic Sans MS"/>
              </a:rPr>
              <a:t>tall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Comic Sans MS"/>
              </a:rPr>
              <a:t>be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Comic Sans MS"/>
              </a:rPr>
              <a:t>mrs y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6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1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685800" y="1447920"/>
            <a:ext cx="7924680" cy="26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ndependent Writi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304920"/>
            <a:ext cx="7925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Objective: To write complete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To apply knowledge of correct capitalization and punc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4114800"/>
            <a:ext cx="708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picture of an adult they know and write a caption sentence that includes the special name and title of that pers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883908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cc00"/>
                </a:solidFill>
                <a:uFillTx/>
                <a:latin typeface="Comic Sans MS"/>
              </a:rPr>
              <a:t>Interview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99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Comic Sans MS"/>
              </a:rPr>
              <a:t>The questions help you find out about a p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99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Comic Sans MS"/>
              </a:rPr>
              <a:t>Questions begin with words like </a:t>
            </a:r>
            <a:r>
              <a:rPr b="0" lang="en-US" sz="3600" spc="-1" strike="noStrike" u="sng">
                <a:solidFill>
                  <a:srgbClr val="99cc00"/>
                </a:solidFill>
                <a:uFillTx/>
                <a:latin typeface="Comic Sans MS"/>
              </a:rPr>
              <a:t>Who, What, When, Where, Why, and 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99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Comic Sans MS"/>
              </a:rPr>
              <a:t>Questions end with a question ma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0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6" dur="2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315200" y="0"/>
            <a:ext cx="1828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people ask questions in an interview to learn more about someone or some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640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e Interview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choose a focus for wri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om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v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recognizable words; to segment phonemes in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304560"/>
            <a:ext cx="518148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81480" y="1066680"/>
            <a:ext cx="363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compound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pound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pac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3352680"/>
            <a:ext cx="510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backpac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compound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pound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kic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bal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3352680"/>
            <a:ext cx="510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kickbal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compound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pound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po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3352680"/>
            <a:ext cx="510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popcor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compound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pound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hil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5120" y="3352680"/>
            <a:ext cx="510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anthil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Carey Dailey</cp:lastModifiedBy>
  <dcterms:modified xsi:type="dcterms:W3CDTF">2008-11-22T04:05:41Z</dcterms:modified>
  <cp:revision>83</cp:revision>
  <dc:subject/>
  <dc:title>Slide 1</dc:title>
</cp:coreProperties>
</file>