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508-33EF-42F8-BF75-07E01532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8DC-F671-4B62-A5D5-00C03AAC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0FEE-1B9F-469F-A4C7-613412E1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673-D481-454B-B2A1-E76E6127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F02-6380-48F6-A6D0-2E114877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29C-18E6-44DC-8814-B7B50594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99F-A9B2-40F2-A693-A123D574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9BF-FE6A-46E7-8168-A73EC8CC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80D-8239-4C7A-9268-7A51480C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DE9-9E35-47EE-A794-A68CEB92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651-CBE9-4381-9B60-B48D5FF3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737-7417-4E40-BD82-5467E868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DF71-D9BE-4325-9878-8BEE5F5EF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13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1, Day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andbo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uns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if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orklif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ild W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or, ore and other known letter-sounds to spell and write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20574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0574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8954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8954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3809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8098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3809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8954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4495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4956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53341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53341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ild W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or, ore and other known letter-sounds to spell and write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12193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0574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0574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28954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8954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4956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809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809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8954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4495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4956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53341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53341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3809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53341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067520" y="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kind of pet do you have or want to hav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is it specia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pet _______ can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 is special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gu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a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181480" y="2286000"/>
            <a:ext cx="3657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nimal adapts to a place, it had body parts or ways of acting that help it liv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57200"/>
            <a:ext cx="4978440" cy="1467000"/>
          </a:xfrm>
          <a:prstGeom prst="roundRect">
            <a:avLst>
              <a:gd name="adj" fmla="val 10486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609480"/>
            <a:ext cx="4876560" cy="1235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934320" y="3049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84582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What would you do to adapt to living on a bo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How would you adapt to living in a c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How would you adapt if you lived in a place that had lots of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533520"/>
            <a:ext cx="5181480" cy="99036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609480"/>
            <a:ext cx="48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gu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609480"/>
            <a:ext cx="3048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hink that something is intriguing, you are curious abou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384880" cy="3483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81480" y="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2280"/>
            <a:ext cx="85345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 you think that bugs or penguins are more intriguing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omic Sans MS"/>
              </a:rPr>
              <a:t>What would your face and body look like if you were looking at something intrigu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What movies have you seen that were intrigu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511960" y="1066680"/>
            <a:ext cx="34797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inhabit a place, you live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33520"/>
            <a:ext cx="3962520" cy="152388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62120"/>
            <a:ext cx="4826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inhabi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5029200" cy="3749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486400" y="304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Would you like to inhabit a house with no roof? 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mic Sans MS"/>
              </a:rPr>
              <a:t>Would you like to inhabit a world made out of food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What would it be like to inhabit the m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ntroduce special names and tit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 Smith likes hor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. Hill has a hor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orse’s name is Mu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. Chin is a v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522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pecial Names and Ti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9246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omic Sans MS"/>
              </a:rPr>
              <a:t>Can an animal nuzzle you while it is prancing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If a place always had raging storms, would it be a good place to inhabit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Name an intriguing animal you have seen.  Why is it so interes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If an animal adapted to life in a snowy place, would it be able to liv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4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1981080"/>
            <a:ext cx="7696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mm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04920"/>
            <a:ext cx="7619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To use special names and titl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capitalize and punctuate special names and titl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15192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tinguish between real and make-belie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My Fish Can Ride a Bicyc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87200"/>
            <a:ext cx="792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special name or title is the name for a certain person.  Special names and titles begin with capital letters and titles end with a perio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ntroduce special names and tit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716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883908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et’s look at some words and see which ones are special names or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dr m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a good do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tall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b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mrs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7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9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85800" y="1447920"/>
            <a:ext cx="792468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dependent Writ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304920"/>
            <a:ext cx="7925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Objective: To write complet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To apply knowledge of correct capitalization and punc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11480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 of an adult they know and write a caption sentence that includes the special name and title of that per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88390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cc00"/>
                </a:solidFill>
                <a:uFillTx/>
                <a:latin typeface="Comic Sans MS"/>
              </a:rPr>
              <a:t>Inter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The questions help you find out about a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Questions begin with words like </a:t>
            </a:r>
            <a:r>
              <a:rPr b="0" lang="en-US" sz="3600" spc="-1" strike="noStrike" u="sng">
                <a:solidFill>
                  <a:srgbClr val="99cc00"/>
                </a:solidFill>
                <a:uFillTx/>
                <a:latin typeface="Comic Sans MS"/>
              </a:rPr>
              <a:t>Who, What, When, Where, Why, and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Questions end with a question m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315200" y="0"/>
            <a:ext cx="1828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people ask questions in an interview to learn more about someone or some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Inter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hoose a focus for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;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5181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ki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kickb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opcor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nthi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5:41Z</dcterms:modified>
  <cp:revision>83</cp:revision>
  <dc:subject/>
  <dc:title>Slide 1</dc:title>
</cp:coreProperties>
</file>