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B5B8-29B1-498E-89F7-5020A966A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5A07-50AD-4002-AB6B-B482369BE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EAB-A24B-423E-BDB5-2984DD93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D08-6476-4A4B-96F1-EB55876C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311-3BFB-43C9-867E-60DE0AF6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9AE-6DD9-4466-9194-CED08FE9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5CAE-4FEE-44F4-BC94-F79101F2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F3BA-7408-4901-BFDE-1F015F7E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AA1B-497C-4822-9396-6F62150A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3F2B-B599-4F35-A473-7136EA90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C240-EE84-47DF-B7C9-DC0C6468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D7A8-1E7E-4BE9-AAA8-14F606F1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9DB3-E687-4F30-AD2D-13815949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085E-EB1C-4892-86C1-C6B47656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3A06-3C8F-4FE8-8C49-13C516AE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3C39-1E5A-44BF-B2A6-607807B1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1C2C-AF30-4CE3-9114-1891215B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8393-2C2C-49F6-B13F-8DF7705F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90F7-457F-48AF-B334-20031BE5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8E7-2245-483D-969E-9A1E322E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F5B-4812-4EE2-B3C1-897A8478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53C-2396-4405-B570-67E0CAB6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D49-BF71-475D-9274-94573E76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876-0D41-493A-A124-4BF182A9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52A-2D7D-465F-AE5B-45A789F0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729-9909-4D66-9E4B-2B04E765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CB2B-E368-472F-84D6-3284D21D033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C6B5-DC5E-42DB-A21E-7FB259973E0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09480" y="609480"/>
            <a:ext cx="731520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vember 13, 2008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1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 4 and Day 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7010280" y="15228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581280" y="2666880"/>
            <a:ext cx="2362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2" descr="C:\Users\Janice\AppData\Local\Microsoft\Windows\Temporary Internet Files\Content.IE5\CVW5V2AD\MCj03974940000[1].wmf"/>
          <p:cNvPicPr/>
          <p:nvPr/>
        </p:nvPicPr>
        <p:blipFill>
          <a:blip r:embed="rId1"/>
          <a:stretch/>
        </p:blipFill>
        <p:spPr>
          <a:xfrm>
            <a:off x="5257800" y="380880"/>
            <a:ext cx="2438280" cy="59436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segment words into phoneme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22860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Let’s 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0" y="1143000"/>
            <a:ext cx="60958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You will sing a song and say the sounds that make up each word.  Sing to the tune of “London Bridge is Falling Dow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(child’s name) say the sounds in fish, sounds in fish, sounds in f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(child’s name) say the sounds in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,  I  can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f/ /i/ /s/ /h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7238880" y="685800"/>
            <a:ext cx="1905120" cy="12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f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t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d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sn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s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sw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bo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71600" y="152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Objective: To blend phonemes into recognizabl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838080"/>
            <a:ext cx="6553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ing to the tune of “The Muffin Ma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Can you say /w/ /o/ /k/, /w/ /o/ /k/, /w/ /o/ /k/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Can you say /w/ /o/ /k/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Yes I know I ca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762120"/>
            <a:ext cx="16002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t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o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52480" y="3809880"/>
            <a:ext cx="46483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2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9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228600"/>
            <a:ext cx="7315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iv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recognize compoun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decode words parts in compoun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build compound words with 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28600" y="2362320"/>
            <a:ext cx="79246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mpound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457200"/>
            <a:ext cx="723924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Compound Words are made by joining two smaller word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920" y="0"/>
            <a:ext cx="7315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ck     pack = backp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8600" y="990720"/>
            <a:ext cx="8077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t     hill = anthi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8600" y="1905120"/>
            <a:ext cx="8381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and     box = sandbox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8600" y="2666880"/>
            <a:ext cx="8305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p      corn = popcor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52280" y="3429000"/>
            <a:ext cx="8534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n     set = suns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600" y="4114800"/>
            <a:ext cx="8305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ork     lift = forklif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905120" y="5029200"/>
            <a:ext cx="6781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me     thing = someth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828800" y="2057400"/>
            <a:ext cx="5485680" cy="2742480"/>
            <a:chOff x="1828800" y="2057400"/>
            <a:chExt cx="5485680" cy="2742480"/>
          </a:xfrm>
        </p:grpSpPr>
        <p:cxnSp>
          <p:nvCxnSpPr>
            <p:cNvPr id="193" name="_s18452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256720" y="2467800"/>
              <a:ext cx="549000" cy="192060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6" name="_s18451"/>
            <p:cNvCxnSpPr>
              <a:stCxn id="197" idx="0"/>
              <a:endCxn id="195" idx="2"/>
            </p:cNvCxnSpPr>
            <p:nvPr/>
          </p:nvCxnSpPr>
          <p:spPr>
            <a:xfrm flipV="1">
              <a:off x="4571640" y="3153600"/>
              <a:ext cx="216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8" name="_s18450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3337920" y="2468520"/>
              <a:ext cx="549000" cy="191916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5" name="_s18446"/>
            <p:cNvSpPr/>
            <p:nvPr/>
          </p:nvSpPr>
          <p:spPr>
            <a:xfrm>
              <a:off x="3748680" y="205740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ompound wo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8447"/>
            <p:cNvSpPr/>
            <p:nvPr/>
          </p:nvSpPr>
          <p:spPr>
            <a:xfrm>
              <a:off x="182880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kic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8448"/>
            <p:cNvSpPr/>
            <p:nvPr/>
          </p:nvSpPr>
          <p:spPr>
            <a:xfrm>
              <a:off x="374868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kickb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8449"/>
            <p:cNvSpPr/>
            <p:nvPr/>
          </p:nvSpPr>
          <p:spPr>
            <a:xfrm>
              <a:off x="566892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a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828800" y="2057400"/>
            <a:ext cx="5485680" cy="2742480"/>
            <a:chOff x="1828800" y="2057400"/>
            <a:chExt cx="5485680" cy="2742480"/>
          </a:xfrm>
        </p:grpSpPr>
        <p:cxnSp>
          <p:nvCxnSpPr>
            <p:cNvPr id="201" name="_s19468"/>
            <p:cNvCxnSpPr>
              <a:stCxn id="202" idx="0"/>
              <a:endCxn id="203" idx="2"/>
            </p:cNvCxnSpPr>
            <p:nvPr/>
          </p:nvCxnSpPr>
          <p:spPr>
            <a:xfrm flipV="1" rot="16200000">
              <a:off x="5256720" y="2467800"/>
              <a:ext cx="549000" cy="192060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19467"/>
            <p:cNvCxnSpPr>
              <a:stCxn id="205" idx="0"/>
              <a:endCxn id="203" idx="2"/>
            </p:cNvCxnSpPr>
            <p:nvPr/>
          </p:nvCxnSpPr>
          <p:spPr>
            <a:xfrm flipV="1">
              <a:off x="4571640" y="3153600"/>
              <a:ext cx="216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19466"/>
            <p:cNvCxnSpPr>
              <a:stCxn id="207" idx="0"/>
              <a:endCxn id="203" idx="2"/>
            </p:cNvCxnSpPr>
            <p:nvPr/>
          </p:nvCxnSpPr>
          <p:spPr>
            <a:xfrm flipH="1" flipV="1" rot="5400000">
              <a:off x="3337920" y="2468520"/>
              <a:ext cx="549000" cy="191916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3" name="_s19462"/>
            <p:cNvSpPr/>
            <p:nvPr/>
          </p:nvSpPr>
          <p:spPr>
            <a:xfrm>
              <a:off x="3748680" y="205740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ompound Wo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9463"/>
            <p:cNvSpPr/>
            <p:nvPr/>
          </p:nvSpPr>
          <p:spPr>
            <a:xfrm>
              <a:off x="182880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bat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9464"/>
            <p:cNvSpPr/>
            <p:nvPr/>
          </p:nvSpPr>
          <p:spPr>
            <a:xfrm>
              <a:off x="374868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bathtu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9465"/>
            <p:cNvSpPr/>
            <p:nvPr/>
          </p:nvSpPr>
          <p:spPr>
            <a:xfrm>
              <a:off x="566892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tu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828800" y="2057400"/>
            <a:ext cx="5485680" cy="2742480"/>
            <a:chOff x="1828800" y="2057400"/>
            <a:chExt cx="5485680" cy="2742480"/>
          </a:xfrm>
        </p:grpSpPr>
        <p:cxnSp>
          <p:nvCxnSpPr>
            <p:cNvPr id="209" name="_s20492"/>
            <p:cNvCxnSpPr>
              <a:stCxn id="210" idx="0"/>
              <a:endCxn id="211" idx="2"/>
            </p:cNvCxnSpPr>
            <p:nvPr/>
          </p:nvCxnSpPr>
          <p:spPr>
            <a:xfrm flipV="1" rot="16200000">
              <a:off x="5256720" y="2467800"/>
              <a:ext cx="549000" cy="192060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20491"/>
            <p:cNvCxnSpPr>
              <a:stCxn id="213" idx="0"/>
              <a:endCxn id="211" idx="2"/>
            </p:cNvCxnSpPr>
            <p:nvPr/>
          </p:nvCxnSpPr>
          <p:spPr>
            <a:xfrm flipV="1">
              <a:off x="4571640" y="3153600"/>
              <a:ext cx="216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20490"/>
            <p:cNvCxnSpPr>
              <a:stCxn id="215" idx="0"/>
              <a:endCxn id="211" idx="2"/>
            </p:cNvCxnSpPr>
            <p:nvPr/>
          </p:nvCxnSpPr>
          <p:spPr>
            <a:xfrm flipH="1" flipV="1" rot="5400000">
              <a:off x="3337920" y="2468520"/>
              <a:ext cx="549000" cy="191916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_s20486"/>
            <p:cNvSpPr/>
            <p:nvPr/>
          </p:nvSpPr>
          <p:spPr>
            <a:xfrm>
              <a:off x="3748680" y="205740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ompound Wo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20487"/>
            <p:cNvSpPr/>
            <p:nvPr/>
          </p:nvSpPr>
          <p:spPr>
            <a:xfrm>
              <a:off x="182880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baske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20488"/>
            <p:cNvSpPr/>
            <p:nvPr/>
          </p:nvSpPr>
          <p:spPr>
            <a:xfrm>
              <a:off x="374868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sketba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20489"/>
            <p:cNvSpPr/>
            <p:nvPr/>
          </p:nvSpPr>
          <p:spPr>
            <a:xfrm>
              <a:off x="566892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bal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828800" y="2057400"/>
            <a:ext cx="5485680" cy="2742480"/>
            <a:chOff x="1828800" y="2057400"/>
            <a:chExt cx="5485680" cy="2742480"/>
          </a:xfrm>
        </p:grpSpPr>
        <p:cxnSp>
          <p:nvCxnSpPr>
            <p:cNvPr id="217" name="_s21516"/>
            <p:cNvCxnSpPr>
              <a:stCxn id="218" idx="0"/>
              <a:endCxn id="219" idx="2"/>
            </p:cNvCxnSpPr>
            <p:nvPr/>
          </p:nvCxnSpPr>
          <p:spPr>
            <a:xfrm flipV="1" rot="16200000">
              <a:off x="5256720" y="2467800"/>
              <a:ext cx="549000" cy="192060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21515"/>
            <p:cNvCxnSpPr>
              <a:stCxn id="221" idx="0"/>
              <a:endCxn id="219" idx="2"/>
            </p:cNvCxnSpPr>
            <p:nvPr/>
          </p:nvCxnSpPr>
          <p:spPr>
            <a:xfrm flipV="1">
              <a:off x="4571640" y="3153600"/>
              <a:ext cx="216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2" name="_s21514"/>
            <p:cNvCxnSpPr>
              <a:stCxn id="223" idx="0"/>
              <a:endCxn id="219" idx="2"/>
            </p:cNvCxnSpPr>
            <p:nvPr/>
          </p:nvCxnSpPr>
          <p:spPr>
            <a:xfrm flipH="1" flipV="1" rot="5400000">
              <a:off x="3337920" y="2468520"/>
              <a:ext cx="549000" cy="191916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9" name="_s21510"/>
            <p:cNvSpPr/>
            <p:nvPr/>
          </p:nvSpPr>
          <p:spPr>
            <a:xfrm>
              <a:off x="3748680" y="205740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ompound Wo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1511"/>
            <p:cNvSpPr/>
            <p:nvPr/>
          </p:nvSpPr>
          <p:spPr>
            <a:xfrm>
              <a:off x="182880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som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21512"/>
            <p:cNvSpPr/>
            <p:nvPr/>
          </p:nvSpPr>
          <p:spPr>
            <a:xfrm>
              <a:off x="374868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ometh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21513"/>
            <p:cNvSpPr/>
            <p:nvPr/>
          </p:nvSpPr>
          <p:spPr>
            <a:xfrm>
              <a:off x="566892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thi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920" y="1676520"/>
            <a:ext cx="8610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estions of the Da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38088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Objective: To listen attentively and respond appropriately to oral communication; to express personal prefer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380880"/>
            <a:ext cx="86104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ick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kickbal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me!” said J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t’s dig in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andbox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” said K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ok at the ants in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thil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” said Tod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n’t dig the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’m going on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wingse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” said Ma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 want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opcor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eat?” Mrs.York as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28600" y="228600"/>
            <a:ext cx="7467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914400"/>
            <a:ext cx="25909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1295280"/>
            <a:ext cx="2438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5638680"/>
            <a:ext cx="64767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bjectiv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 use /or/ or, ore, and other known letter-sounds to spell and write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 spell and write known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77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77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77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77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0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 you want to read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play a g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had pizz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d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 the clay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orm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e shape of an an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m would lik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or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m went to th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tor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buy ap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or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e blocks by co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rain is very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on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 will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rin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uffins to the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You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dog is c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bumped my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ea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 the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37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22860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Objective: To compare and contrast while listening to a 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32" name=""/>
          <p:cNvSpPr/>
          <p:nvPr/>
        </p:nvSpPr>
        <p:spPr>
          <a:xfrm>
            <a:off x="4114800" y="2354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2280" y="1371600"/>
            <a:ext cx="83059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en you compar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 contrast thing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 tell how the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re the same or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fferent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3520" y="91440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 Sans MS"/>
              </a:rPr>
              <a:t>Let’s read Ugh! A Bug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1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85800"/>
            <a:ext cx="71629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ow let’s compare and contrast two bugs in ou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ow are the smooth and spiky bugs the s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66"/>
                </a:solidFill>
                <a:latin typeface="Comic Sans MS"/>
              </a:rPr>
              <a:t>How are they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8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1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09480" y="1295280"/>
            <a:ext cx="77724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bust Vocabula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3808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Objective: To review robust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181480" y="2286000"/>
            <a:ext cx="3657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an animal adapts to a place, it had body parts or ways of acting that help it liv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457200"/>
            <a:ext cx="4978440" cy="1467000"/>
          </a:xfrm>
          <a:prstGeom prst="roundRect">
            <a:avLst>
              <a:gd name="adj" fmla="val 10486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05120" y="609480"/>
            <a:ext cx="4876560" cy="1235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934320" y="30492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84582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What would you do to adapt to living on a bo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How would you adapt to living in a c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How would you adapt if you lived in a place that had lots of r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533520"/>
            <a:ext cx="5181480" cy="99036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609480"/>
            <a:ext cx="48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igu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609480"/>
            <a:ext cx="3048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hink that something is intriguing, you are curious about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5384880" cy="3483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181480" y="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52280"/>
            <a:ext cx="9144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hat kind of pet do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ave or want to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f66"/>
                </a:solidFill>
                <a:latin typeface="Comic Sans MS"/>
              </a:rPr>
              <a:t>Why is it spec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My pet ______can 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It is special because 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3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3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52280"/>
            <a:ext cx="85345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o you think that bugs or penguins are more intriguing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What would your face and body look like if you were looking at something intrigu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800"/>
                </a:solidFill>
                <a:latin typeface="Comic Sans MS"/>
              </a:rPr>
              <a:t>What movies have you seen that were intrigu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511960" y="1066680"/>
            <a:ext cx="34797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inhabit a place, you live 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533520"/>
            <a:ext cx="3962520" cy="152388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762120"/>
            <a:ext cx="4826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inhabi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5029200" cy="37494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486400" y="3049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8153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800"/>
                </a:solidFill>
                <a:latin typeface="Comic Sans MS"/>
              </a:rPr>
              <a:t>Would you like to inhabit a house with no roof? 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Would you like to inhabit a world made out of food?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f66"/>
                </a:solidFill>
                <a:latin typeface="Comic Sans MS"/>
              </a:rPr>
              <a:t>What would it be like to inhabit the m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79246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f66"/>
                </a:solidFill>
                <a:latin typeface="Comic Sans MS"/>
              </a:rPr>
              <a:t>Can an animal nuzzle you while it is prancing?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b800"/>
                </a:solidFill>
                <a:latin typeface="Comic Sans MS"/>
              </a:rPr>
              <a:t>If a place always had raging storms, would it be a good place to inhabit?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Name an intriguing animal you have seen.  Why is it so interes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If an animal adapted to life in a snowy place, would it be able to liv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9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2619360" y="1257480"/>
            <a:ext cx="3905280" cy="3528720"/>
            <a:chOff x="2619360" y="1257480"/>
            <a:chExt cx="3905280" cy="3528720"/>
          </a:xfrm>
        </p:grpSpPr>
        <p:sp>
          <p:nvSpPr>
            <p:cNvPr id="258" name="_s36876"/>
            <p:cNvSpPr/>
            <p:nvPr/>
          </p:nvSpPr>
          <p:spPr>
            <a:xfrm flipH="1">
              <a:off x="3631680" y="3699000"/>
              <a:ext cx="46836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36875"/>
            <p:cNvSpPr/>
            <p:nvPr/>
          </p:nvSpPr>
          <p:spPr>
            <a:xfrm>
              <a:off x="2619360" y="370044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y classro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36874"/>
            <p:cNvSpPr/>
            <p:nvPr/>
          </p:nvSpPr>
          <p:spPr>
            <a:xfrm>
              <a:off x="5041800" y="3700440"/>
              <a:ext cx="4701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36873"/>
            <p:cNvSpPr/>
            <p:nvPr/>
          </p:nvSpPr>
          <p:spPr>
            <a:xfrm>
              <a:off x="5438880" y="369900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y t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36872"/>
            <p:cNvSpPr/>
            <p:nvPr/>
          </p:nvSpPr>
          <p:spPr>
            <a:xfrm flipV="1">
              <a:off x="4572000" y="234324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36871"/>
            <p:cNvSpPr/>
            <p:nvPr/>
          </p:nvSpPr>
          <p:spPr>
            <a:xfrm>
              <a:off x="4029120" y="125748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y ho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36870"/>
            <p:cNvSpPr/>
            <p:nvPr/>
          </p:nvSpPr>
          <p:spPr>
            <a:xfrm>
              <a:off x="4029120" y="288612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hab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5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7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9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2619360" y="1257480"/>
            <a:ext cx="3905280" cy="3528720"/>
            <a:chOff x="2619360" y="1257480"/>
            <a:chExt cx="3905280" cy="3528720"/>
          </a:xfrm>
        </p:grpSpPr>
        <p:sp>
          <p:nvSpPr>
            <p:cNvPr id="266" name="_s37900"/>
            <p:cNvSpPr/>
            <p:nvPr/>
          </p:nvSpPr>
          <p:spPr>
            <a:xfrm flipH="1">
              <a:off x="3631680" y="3699000"/>
              <a:ext cx="46836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37899"/>
            <p:cNvSpPr/>
            <p:nvPr/>
          </p:nvSpPr>
          <p:spPr>
            <a:xfrm>
              <a:off x="2619360" y="370044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hu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37898"/>
            <p:cNvSpPr/>
            <p:nvPr/>
          </p:nvSpPr>
          <p:spPr>
            <a:xfrm>
              <a:off x="5041800" y="3700440"/>
              <a:ext cx="4701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37897"/>
            <p:cNvSpPr/>
            <p:nvPr/>
          </p:nvSpPr>
          <p:spPr>
            <a:xfrm>
              <a:off x="5438880" y="369900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a snowflak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37896"/>
            <p:cNvSpPr/>
            <p:nvPr/>
          </p:nvSpPr>
          <p:spPr>
            <a:xfrm flipV="1">
              <a:off x="4572000" y="234324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37895"/>
            <p:cNvSpPr/>
            <p:nvPr/>
          </p:nvSpPr>
          <p:spPr>
            <a:xfrm>
              <a:off x="4029120" y="125748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a rainb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37894"/>
            <p:cNvSpPr/>
            <p:nvPr/>
          </p:nvSpPr>
          <p:spPr>
            <a:xfrm>
              <a:off x="4029120" y="288612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trigu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85800" y="1981080"/>
            <a:ext cx="76960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mm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304920"/>
            <a:ext cx="7619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use special names and titles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o capitalize and punctuate special names and titles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77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8" dur="77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0" dur="77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2" dur="77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57200" y="187200"/>
            <a:ext cx="792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A special name or title is the name for a certain person.  Special names and titles begin with capital letters and titles end with a perio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7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83818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t’s look at some words and see which ones are special names or ti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r. M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 good do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all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rs.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4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4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0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4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9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85800" y="1447920"/>
            <a:ext cx="792468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dependent Writ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304920"/>
            <a:ext cx="7925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Objective: To write complet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To apply knowledge of correct capitalization and punc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67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0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533520"/>
            <a:ext cx="73152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Imagine you have a p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hat is something silly it can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f66"/>
                </a:solidFill>
                <a:latin typeface="Comic Sans MS"/>
              </a:rPr>
              <a:t>My _________can _____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3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8839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Interview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The questions help you find out about a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Questions begin with words like </a:t>
            </a:r>
            <a:r>
              <a:rPr b="0" lang="en-US" sz="3600" spc="-1" strike="noStrike" u="sng">
                <a:solidFill>
                  <a:srgbClr val="703dff"/>
                </a:solidFill>
                <a:uFillTx/>
                <a:latin typeface="Comic Sans MS"/>
              </a:rPr>
              <a:t>Who, What, When, Where, Why, and 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Questions end with a question m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88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1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4" dur="8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5" dur="8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6" dur="8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8229600" cy="43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Examples of interview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Where did you grow u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What did you like to do in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f66"/>
                </a:solidFill>
                <a:latin typeface="Comic Sans MS"/>
              </a:rPr>
              <a:t>What do you like best about being princip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08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3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0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280" y="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bjective : To distinguish between real and make believe; to enjoy a contemporary po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85800"/>
            <a:ext cx="83059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Can Ride a Bi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can ride a bicyc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can climb a tre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enjoys a glass of mil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takes naps with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can play the clarin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can bounce a bal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is not like other fis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can’t swim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914400" y="1143000"/>
            <a:ext cx="6934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hyming Word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09480" y="914400"/>
            <a:ext cx="6934320" cy="394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ee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ll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l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09480" y="533520"/>
            <a:ext cx="68580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 poet in this poem is writing about something that is make belie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f you have a make believe story it is something that is made up and cannot be re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696080" cy="9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ord Wall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ima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s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d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a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7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77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4:58:49Z</dcterms:created>
  <dc:creator>Valued Gateway Client</dc:creator>
  <dc:description/>
  <dc:language>en-US</dc:language>
  <cp:lastModifiedBy>Valued Gateway Client</cp:lastModifiedBy>
  <dcterms:modified xsi:type="dcterms:W3CDTF">2008-11-12T21:59:30Z</dcterms:modified>
  <cp:revision>4</cp:revision>
  <dc:subject/>
  <dc:title>Slide 1</dc:title>
</cp:coreProperties>
</file>