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B64-A324-464E-9C66-D7F1C3F7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2B0-AC7A-4078-835B-5B1171F4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BD2-C6BF-4AFE-9300-593B7D23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BB0-35A7-4E63-9198-2E405B5F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024-2A9E-484B-AC94-D661EB3E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A3E-3719-43F0-B7F9-6439CFA8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753D-180C-4DB5-B72A-E751E2E0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446-8C76-40F2-BFE8-D55EB975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723-082D-4435-8B6A-2F2EC778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25F-482C-4FFD-A51B-D62A0C56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F54-D814-40AD-9973-A7C6BF85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F03-ACF5-46F6-8FB6-32B18E37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6EEB-CE4B-4EA7-9D06-F61D07E5C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4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Fox wished for a big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fresh f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38080"/>
            <a:ext cx="8534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9144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514600"/>
            <a:ext cx="8305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66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648320"/>
            <a:ext cx="830556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41911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7242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or Coyote, the Judg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730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o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48320" y="1295280"/>
            <a:ext cx="4101840" cy="50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you reward someone, you give something special or nice to that person for something he or she has do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0"/>
            <a:ext cx="41976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war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648320" cy="445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37843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so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o do something handsomely, means to do it in a way that is great or more than you expec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omething is cruel when it brings pain or makes you feel ba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ru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1814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special names of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pecial Names of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5562720" cy="552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48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rowed from: http://www.worldatlas.com/webimage/countrys/na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nimal do you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not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care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 don’t you like this anim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don’t like _________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ntroduce special names of pla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716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bout Special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685800"/>
            <a:ext cx="5504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65280" y="0"/>
            <a:ext cx="45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entences give clues about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clues us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my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lues begin with a capital letter and end with a peri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 question ends the ridd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question begins with a capital letter and ends with a question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Rid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ridd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hyming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838080"/>
            <a:ext cx="4800600" cy="67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ead Aloud –             “Ugh! A Bug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id you see a bug, that made you say “ugh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Was it really b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id it look like a tw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agraph sh /sh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agraph /sh/ 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75248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sh/ sound, put your thumb near your shoe and say /sh/.  When I say a word that does not have /sh/, put your thumb dow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4100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sh/ s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952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9528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sh/ sh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990720"/>
            <a:ext cx="525780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hop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ho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hu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rus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6:31Z</dcterms:modified>
  <cp:revision>85</cp:revision>
  <dc:subject/>
  <dc:title>Slide 1</dc:title>
</cp:coreProperties>
</file>