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DE3-DAAD-4B6C-B3D7-F538763D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248-D800-4C35-AC36-85B638AE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DF7-2D66-4779-B066-66392D56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B8F-B715-4F1A-BB9A-A4F597EF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AD3-7697-4D9F-9CD8-1C10E9CD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81D-36D7-4693-8935-1AE3FC22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BF1-9053-4196-8588-DC8B7447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6FF-AF24-4222-B303-7C65D8F5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ADF-1C52-4288-AF6D-C5C8D61F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89D-5A2C-4B9D-AD72-4EDF3F12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983-F790-4481-99DE-3EC1181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370-6D52-4096-AA43-A993E29D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279C-EF77-4CBB-8CCF-247CDE479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14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Fox wished for a big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fresh fis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38080"/>
            <a:ext cx="853452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1337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9144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514600"/>
            <a:ext cx="830592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666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648320"/>
            <a:ext cx="8305560" cy="18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41911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7242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or Coyote, the Judg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730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som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48320" y="1295280"/>
            <a:ext cx="4101840" cy="50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f you reward someone, you give something special or nice to that person for something he or she has do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0"/>
            <a:ext cx="41976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war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648320" cy="4451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37843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som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1714680"/>
            <a:ext cx="3713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o do something handsomely, means to do it in a way that is great or more than you expect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omething is cruel when it brings pain or makes you feel ba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ru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1814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special names of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pecial Names of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5562720" cy="552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248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rowed from: http://www.worldatlas.com/webimage/countrys/na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nimal do you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not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care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 don’t you like this anima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don’t like _________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ntroduce special names of pla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716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bout Special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685800"/>
            <a:ext cx="5504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65280" y="0"/>
            <a:ext cx="45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Ridd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entences give clues about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clues us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my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lues begin with a capital letter and end with a peri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 question ends the ridd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question begins with a capital letter and ends with a question m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effective rid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Rid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ridd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rhyming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838080"/>
            <a:ext cx="4800600" cy="67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ead Aloud –             “Ugh! A Bug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id you see a bug, that made you say “ugh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Was it really b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id it look like a tw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;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5181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the diagraph sh /sh/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agraph /sh/ 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75248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sh/ sound, put your thumb near your shoe and say /sh/.  When I say a word that does not have /sh/, put your thumb dow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4100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sh/ s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952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9528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sh/ sh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990720"/>
            <a:ext cx="525780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shop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sho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shu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rush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6:31Z</dcterms:modified>
  <cp:revision>85</cp:revision>
  <dc:subject/>
  <dc:title>Slide 1</dc:title>
</cp:coreProperties>
</file>