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DBF6-D375-46C9-AE41-C453C49A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84E7-76C8-4740-A8E9-5CB8CCCC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9E43-4579-4C41-B960-31C5529C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251B-BE44-4C5A-9910-7B773548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C8E-CAE9-4F34-B0A4-D0753A4B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1D39-7868-47E9-9A35-EC6352109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D9FB-A778-4CA1-8CBF-97A204EF1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EEB-208D-42B5-8265-9BB0E0BD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972-F066-42F0-9F93-5454F9C2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B1FC-4714-472B-B50E-251DD4CC7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81A5-BDBF-4BA9-998D-29ADA9AFF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326-3269-4F43-B9AA-AF4232B0E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1AB6-0004-43FB-ACCD-437C57EA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4A1D-BC06-4512-AA7B-B39055EC8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F45B-5764-4104-808A-131BC337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74A-6ECE-4EB9-8794-97B31E7C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2E4-CE5C-488B-BA2B-8CDE7DCD7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4B1F-E628-427A-A3DC-ECB821A9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64D9-49D7-4631-AFB3-51F4B5C0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6EC8-2B14-4EDA-B9A9-B246BCF3F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5BF-3E2C-4150-9AD6-CB7EDDF41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BF5-ACEC-4A72-A549-11EA39919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03C-6E77-4AB8-8E85-7949EBA8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89F-9FBD-4C85-86B7-41497B4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16F-AA09-4560-AEF1-9ADA7667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644-86DC-4F06-ABD2-3132E8C4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E15-48C5-42DA-AF01-6ADC961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215-46A7-44D1-9A55-F84950D0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FCC-EC87-4775-AA5F-43F7790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72A-7DE9-4B47-913F-0F98CF8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08F-AD83-4AAC-8F3E-61E00A39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A2A-8FC7-4D64-B6EE-962A1C5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94C-F7BC-43D9-8F1C-92FAC657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7571-628C-40A3-B375-030A5861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D700-B311-4532-BED1-A015A4F9C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garden.bmp"/>
          <p:cNvPicPr/>
          <p:nvPr/>
        </p:nvPicPr>
        <p:blipFill>
          <a:blip r:embed="rId1"/>
          <a:stretch/>
        </p:blipFill>
        <p:spPr>
          <a:xfrm>
            <a:off x="1143000" y="1447920"/>
            <a:ext cx="691056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What is the setting of this photograph?  How can you t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791320" y="5943600"/>
            <a:ext cx="2819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바탕"/>
                <a:ea typeface="바탕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haroni"/>
                <a:ea typeface="Aharoni"/>
              </a:rPr>
              <a:t>King Midas and His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2952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king who wishes he had lots of gold.  The story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. 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is a very, very old story that has been told over and over and over again.  Something amazing usually happens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that couldn’t happen in re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63244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 To understand genre:  my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2"/>
          <p:cNvCxnSpPr>
            <a:stCxn id="117" idx="2"/>
            <a:endCxn id="116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>
            <a:stCxn id="116" idx="2"/>
            <a:endCxn id="115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4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>
            <a:stCxn id="131" idx="2"/>
            <a:endCxn id="130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7" name="Straight Arrow Connector 14"/>
          <p:cNvCxnSpPr>
            <a:stCxn id="130" idx="2"/>
            <a:endCxn id="129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8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MCBD06667_0000[1]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Pj04089940000[1]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MCIN00399_0000[1]"/>
          <p:cNvPicPr/>
          <p:nvPr/>
        </p:nvPicPr>
        <p:blipFill>
          <a:blip r:embed="rId1"/>
          <a:stretch/>
        </p:blipFill>
        <p:spPr>
          <a:xfrm>
            <a:off x="685800" y="1752480"/>
            <a:ext cx="48830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066680" y="0"/>
            <a:ext cx="762012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Each word in the name of a special place begins with a capital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Can you correct the mistakes in these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Santa Claus lives at the north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stemley road elementary school is in talladega coun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Miss Mooney bought some cookies at wal-m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Many students live in alp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257800" y="5943600"/>
            <a:ext cx="3657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special names of places.  To recognize that each word in a special place-name begins with a capital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you like to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the shor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would like to ________ becaus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3372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00200" y="838080"/>
          <a:ext cx="6095880" cy="5211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clue about the ______________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clue begins with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Which word did you use?  How should we write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 your clue again.  Let’s write the rest of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 telling sentence.  What mark comes at the end of a telling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question do I write at the end of the riddle?  Let’s write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ark does at the end of a question?  Let’s read our riddle 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5"/>
          <p:cNvSpPr/>
          <p:nvPr/>
        </p:nvSpPr>
        <p:spPr>
          <a:xfrm>
            <a:off x="4952880" y="5867280"/>
            <a:ext cx="358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characteristics of riddles.  To generate ideas for riddles.  To capitalize and punctuate sentences correct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f You’re Happy and You Know I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then you’re a sound out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e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le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g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33520" y="4572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64832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105520" y="1600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48769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0"/>
          <p:cNvSpPr/>
          <p:nvPr/>
        </p:nvSpPr>
        <p:spPr>
          <a:xfrm>
            <a:off x="10666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426708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2"/>
          <p:cNvSpPr/>
          <p:nvPr/>
        </p:nvSpPr>
        <p:spPr>
          <a:xfrm>
            <a:off x="4572000" y="4191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4800600" y="41911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5"/>
          <p:cNvSpPr/>
          <p:nvPr/>
        </p:nvSpPr>
        <p:spPr>
          <a:xfrm>
            <a:off x="1523880" y="1219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ru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0666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e setting of a story is where and when i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sett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is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new-york-city-at-night.jpg"/>
          <p:cNvPicPr/>
          <p:nvPr/>
        </p:nvPicPr>
        <p:blipFill>
          <a:blip r:embed="rId1"/>
          <a:stretch/>
        </p:blipFill>
        <p:spPr>
          <a:xfrm>
            <a:off x="3505320" y="1371600"/>
            <a:ext cx="5540400" cy="3693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6400800" y="0"/>
            <a:ext cx="27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17T02:05:34Z</dcterms:modified>
  <cp:revision>191</cp:revision>
  <dc:subject/>
  <dc:title>Slide 1</dc:title>
</cp:coreProperties>
</file>