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734C-436C-4C6D-8851-DA5BD651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1123-00D9-4CF8-8AB7-9736B3F7D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2EA-BF06-46AF-88C4-D67A6B049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77A-363C-4D0C-984F-527CB2ED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D0B-F08C-4DB5-9309-1F204F9A2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D4E1-8178-437D-A039-CCEFD6004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8BEE-0C33-4B78-8F71-01630B6D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4E1D-0014-4DA8-8C02-5A1F3E2A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A7EC-B9EA-4069-9AA4-6E9BC4A63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080-9AD5-4BB4-A9F4-0F9C1F26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43BD-7434-40AE-8319-9810270EA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7191-DEA9-4E8D-B611-91452FCD4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F6B2-9CA0-4CB8-B5CC-AB006629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F9FB-21B5-4022-8B78-96BAD04F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E26-95E0-4F23-B71A-81A814DD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4120-D8DB-4A4C-A91D-F55C9A8D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6F91-8A09-427F-9537-479B373AB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49A-7B05-47B8-B259-28FCC6F9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0AB-7F6A-44DA-9277-F642A94C3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43ED-DF3A-4331-934B-DFFD5BDC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6113-4257-4C8A-89B6-4889EBF92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C9B5-B751-4121-9B14-286C1AB84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4B2-8AF0-4364-9032-1B1C4BF0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CFB-D2DC-4EC0-A4D9-FA38A154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5A5-2673-49F8-8350-62F7A397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ED6-FE5D-4B7E-8EE8-6E97EC1C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A2E-3E56-4060-A49B-AA43308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09A-0F86-44E5-8356-89207786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3EF-FBE4-4377-B4E2-71DCA7F0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632-8EDF-45CF-8186-6864690E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9CA-9CAB-4A87-826B-EAB88D30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DFD-C854-4E67-90A6-0A23626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73A-FA62-4CB4-932F-D9A51AB5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2C7-5A62-42B8-96F6-DBD34576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2F3E-B9D8-4AB2-885F-E23E0DFBC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8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garden.bmp"/>
          <p:cNvPicPr/>
          <p:nvPr/>
        </p:nvPicPr>
        <p:blipFill>
          <a:blip r:embed="rId1"/>
          <a:stretch/>
        </p:blipFill>
        <p:spPr>
          <a:xfrm>
            <a:off x="1143000" y="1447920"/>
            <a:ext cx="691056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What is the setting of this photograph?  How can you t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791320" y="5943600"/>
            <a:ext cx="2819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bjective:  To learn to identify setting as a story 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바탕"/>
                <a:ea typeface="바탕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IMGP3219-718608.jpg"/>
          <p:cNvPicPr/>
          <p:nvPr/>
        </p:nvPicPr>
        <p:blipFill>
          <a:blip r:embed="rId1"/>
          <a:stretch/>
        </p:blipFill>
        <p:spPr>
          <a:xfrm>
            <a:off x="3305160" y="990720"/>
            <a:ext cx="5124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haroni"/>
                <a:ea typeface="Aharoni"/>
              </a:rPr>
              <a:t>King Midas and His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2952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oday’s story is about a king who wishes he had lots of gold.  The story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. 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is a very, very old story that has been told over and over and over again.  Something amazing usually happens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that couldn’t happen in re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63244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  To understand genre:  my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2"/>
          <p:cNvSpPr/>
          <p:nvPr/>
        </p:nvSpPr>
        <p:spPr>
          <a:xfrm>
            <a:off x="838080" y="52578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3"/>
          <p:cNvSpPr/>
          <p:nvPr/>
        </p:nvSpPr>
        <p:spPr>
          <a:xfrm>
            <a:off x="838080" y="3733920"/>
            <a:ext cx="777240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/>
          <p:cNvSpPr/>
          <p:nvPr/>
        </p:nvSpPr>
        <p:spPr>
          <a:xfrm>
            <a:off x="838080" y="22860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5"/>
          <p:cNvSpPr/>
          <p:nvPr/>
        </p:nvSpPr>
        <p:spPr>
          <a:xfrm>
            <a:off x="762120" y="12193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6"/>
          <p:cNvSpPr/>
          <p:nvPr/>
        </p:nvSpPr>
        <p:spPr>
          <a:xfrm>
            <a:off x="4724280" y="1219320"/>
            <a:ext cx="39625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8"/>
          <p:cNvSpPr/>
          <p:nvPr/>
        </p:nvSpPr>
        <p:spPr>
          <a:xfrm>
            <a:off x="2742480" y="205740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0"/>
          <p:cNvSpPr/>
          <p:nvPr/>
        </p:nvSpPr>
        <p:spPr>
          <a:xfrm flipH="1">
            <a:off x="6095880" y="2057400"/>
            <a:ext cx="609840" cy="609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2"/>
          <p:cNvCxnSpPr>
            <a:stCxn id="117" idx="2"/>
            <a:endCxn id="116" idx="0"/>
          </p:cNvCxnSpPr>
          <p:nvPr/>
        </p:nvCxnSpPr>
        <p:spPr>
          <a:xfrm flipH="1">
            <a:off x="4722120" y="3430080"/>
            <a:ext cx="396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>
            <a:stCxn id="116" idx="2"/>
            <a:endCxn id="115" idx="0"/>
          </p:cNvCxnSpPr>
          <p:nvPr/>
        </p:nvCxnSpPr>
        <p:spPr>
          <a:xfrm flipH="1">
            <a:off x="4722120" y="4954680"/>
            <a:ext cx="3960" cy="305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4" name="TextBox 15"/>
          <p:cNvSpPr/>
          <p:nvPr/>
        </p:nvSpPr>
        <p:spPr>
          <a:xfrm>
            <a:off x="205740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King Midas and Hi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5486400" y="152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sk question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2"/>
          <p:cNvSpPr/>
          <p:nvPr/>
        </p:nvSpPr>
        <p:spPr>
          <a:xfrm>
            <a:off x="838080" y="52578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838080" y="3733920"/>
            <a:ext cx="777240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838080" y="22860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762120" y="12193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6"/>
          <p:cNvSpPr/>
          <p:nvPr/>
        </p:nvSpPr>
        <p:spPr>
          <a:xfrm>
            <a:off x="4724280" y="1219320"/>
            <a:ext cx="39625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2742480" y="205740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6095880" y="2057400"/>
            <a:ext cx="609840" cy="609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2"/>
          <p:cNvCxnSpPr>
            <a:stCxn id="131" idx="2"/>
            <a:endCxn id="130" idx="0"/>
          </p:cNvCxnSpPr>
          <p:nvPr/>
        </p:nvCxnSpPr>
        <p:spPr>
          <a:xfrm flipH="1">
            <a:off x="4722120" y="3430080"/>
            <a:ext cx="396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7" name="Straight Arrow Connector 14"/>
          <p:cNvCxnSpPr>
            <a:stCxn id="130" idx="2"/>
            <a:endCxn id="129" idx="0"/>
          </p:cNvCxnSpPr>
          <p:nvPr/>
        </p:nvCxnSpPr>
        <p:spPr>
          <a:xfrm flipH="1">
            <a:off x="4722120" y="4954680"/>
            <a:ext cx="3960" cy="305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8" name="TextBox 15"/>
          <p:cNvSpPr/>
          <p:nvPr/>
        </p:nvSpPr>
        <p:spPr>
          <a:xfrm>
            <a:off x="205740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King Midas and Hi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5486400" y="152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sk question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8320" y="1295280"/>
            <a:ext cx="410184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you reward someone, you give something special or nice to that person for something he or she has d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2438280" y="0"/>
            <a:ext cx="41976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war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MCBD06667_0000[1]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3784320" cy="7081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 do something handsomely, means to do it in a way that is great or more than you expec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Pj04089940000[1]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omething is cruel when it brings pain or makes you feel ba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ru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MCIN00399_0000[1]"/>
          <p:cNvPicPr/>
          <p:nvPr/>
        </p:nvPicPr>
        <p:blipFill>
          <a:blip r:embed="rId1"/>
          <a:stretch/>
        </p:blipFill>
        <p:spPr>
          <a:xfrm>
            <a:off x="685800" y="1752480"/>
            <a:ext cx="48830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1066680" y="0"/>
            <a:ext cx="762012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Each word in the name of a special place begins with a capital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Can you correct the mistakes in these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Santa Claus lives at the north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stemley road elementary school is in talladega coun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haroni"/>
                <a:ea typeface="Aharoni"/>
              </a:rPr>
              <a:t>Miss Mooney bought some cookies at wal-m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Many students live in alp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257800" y="5943600"/>
            <a:ext cx="3657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special names of places.  To recognize that each word in a special place-name begins with a capital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you like to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 the shor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 would like to ________ because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3372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by-Step Writing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00200" y="838080"/>
          <a:ext cx="6095880" cy="5211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 a clue about the ______________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clue begins with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Which word did you use?  How should we write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 your clue again.  Let’s write the rest of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a telling sentence.  What mark comes at the end of a telling senten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question do I write at the end of the riddle?  Let’s write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ark does at the end of a question?  Let’s read our riddle toget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5"/>
          <p:cNvSpPr/>
          <p:nvPr/>
        </p:nvSpPr>
        <p:spPr>
          <a:xfrm>
            <a:off x="4952880" y="5867280"/>
            <a:ext cx="358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the characteristics of riddles.  To generate ideas for riddles.  To capitalize and punctuate sentences correct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Comic Sans MS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Comic Sans MS"/>
              </a:rPr>
              <a:t>In the S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066680" y="49528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If You’re Happy and You Know I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Janice\AppData\Local\Microsoft\Windows\Temporary Internet Files\Content.IE5\AETH7CGB\MCj03793990000[1].wmf"/>
          <p:cNvPicPr/>
          <p:nvPr/>
        </p:nvPicPr>
        <p:blipFill>
          <a:blip r:embed="rId1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Janice\AppData\Local\Microsoft\Windows\Temporary Internet Files\Content.IE5\AETH7CGB\MCj03793990000[1].wmf"/>
          <p:cNvPicPr/>
          <p:nvPr/>
        </p:nvPicPr>
        <p:blipFill>
          <a:blip r:embed="rId2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appy.jpg"/>
          <p:cNvPicPr/>
          <p:nvPr/>
        </p:nvPicPr>
        <p:blipFill>
          <a:blip r:embed="rId3"/>
          <a:stretch/>
        </p:blipFill>
        <p:spPr>
          <a:xfrm>
            <a:off x="2898720" y="2286000"/>
            <a:ext cx="36226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1143000"/>
            <a:ext cx="5638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If You’re Happy and You Know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then you’re a sound out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533520"/>
            <a:ext cx="274320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e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w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lea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g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6002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676520" y="3429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33520" y="45720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228600" y="4572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64832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47242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105520" y="1600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4876920" y="251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10666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12193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0"/>
          <p:cNvSpPr/>
          <p:nvPr/>
        </p:nvSpPr>
        <p:spPr>
          <a:xfrm>
            <a:off x="1066680" y="457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1"/>
          <p:cNvSpPr/>
          <p:nvPr/>
        </p:nvSpPr>
        <p:spPr>
          <a:xfrm>
            <a:off x="426708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2"/>
          <p:cNvSpPr/>
          <p:nvPr/>
        </p:nvSpPr>
        <p:spPr>
          <a:xfrm>
            <a:off x="4572000" y="4191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4800600" y="41911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114300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5"/>
          <p:cNvSpPr/>
          <p:nvPr/>
        </p:nvSpPr>
        <p:spPr>
          <a:xfrm>
            <a:off x="1523880" y="1219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ord Building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Building Spell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066680" y="137160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ru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181480" y="1447920"/>
            <a:ext cx="243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0666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he setting of a story is where and when i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setting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his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new-york-city-at-night.jpg"/>
          <p:cNvPicPr/>
          <p:nvPr/>
        </p:nvPicPr>
        <p:blipFill>
          <a:blip r:embed="rId1"/>
          <a:stretch/>
        </p:blipFill>
        <p:spPr>
          <a:xfrm>
            <a:off x="3505320" y="1371600"/>
            <a:ext cx="5540400" cy="3693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6400800" y="0"/>
            <a:ext cx="27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learn to identify setting as a story 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17T02:05:34Z</dcterms:modified>
  <cp:revision>191</cp:revision>
  <dc:subject/>
  <dc:title>Slide 1</dc:title>
</cp:coreProperties>
</file>