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F54-7DB8-4C33-B718-77F0B671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E5E-D924-492C-A378-F85016AF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B95-A1C7-4650-923D-3A0F186B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AF9-6064-4633-AEF0-C61E8EEC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294-D67D-44F0-AF27-BEB3A6C9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6D2-78B7-4D2C-AD85-A0E45BD0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182-118A-45C4-AF0B-920AF0FB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4C9-2ADE-4C3C-B0E1-94F716C4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D1B-F3A0-4CF1-BDFE-C4CCE53B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DB0-0E80-43FC-895B-1A530803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649-709E-4EC9-8E6D-35AF0086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15B-2D16-42A8-8EF1-56B1FE4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5CD0-6A9A-44AE-A33A-DF519A987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vember 19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12,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www. thinkcentral.com for “Gold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8862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ee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04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- to develop robust vocabulary to describe idea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ree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edy person wants a lot of something and does not want to share any of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7242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s are things that happen as the result of another action. If I walk on thin ice, the consequence might be that I fall through the i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2743200" cy="2170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95280" y="400068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r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who has a regret feels sorry for something he or she d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71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mmar-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pecial names and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rtinez Sp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 country fire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elli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’s gas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28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- to apply knowledge of using capital letters to begin each word in a special place-n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990720"/>
            <a:ext cx="7086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tences give clues about some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lues us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ues begin with a capital letter and end with a peri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question ends the r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question begins with a capital letter and ends with a question ma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d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 was so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can see me on the king’s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 am go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152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 to write a ridd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55480" y="304920"/>
            <a:ext cx="56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listen and respond appropriately to oral commun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2000" y="990720"/>
            <a:ext cx="564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like to play? How do you feel while you play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to play _____. It makes me feel 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7238880" y="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4191120" y="1600200"/>
            <a:ext cx="4343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Comic Sans MS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Comic Sans MS"/>
              </a:rPr>
              <a:t>In the S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ntent Placeholder 5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Placeholder 4"/>
          <p:cNvSpPr/>
          <p:nvPr/>
        </p:nvSpPr>
        <p:spPr>
          <a:xfrm>
            <a:off x="129528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ntent Placeholder 5"/>
          <p:cNvSpPr/>
          <p:nvPr/>
        </p:nvSpPr>
        <p:spPr>
          <a:xfrm>
            <a:off x="4800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57200" y="0"/>
            <a:ext cx="8290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Times New Roman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lip0000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3288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523880" y="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57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6002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304920" y="2514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1676520" y="3429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80880" y="34290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914400" y="457200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533520" y="45720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5105520" y="1600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4876920" y="25146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548640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28"/>
          <p:cNvSpPr/>
          <p:nvPr/>
        </p:nvSpPr>
        <p:spPr>
          <a:xfrm>
            <a:off x="5105520" y="251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106668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9"/>
          <p:cNvSpPr/>
          <p:nvPr/>
        </p:nvSpPr>
        <p:spPr>
          <a:xfrm>
            <a:off x="1219320" y="3429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30"/>
          <p:cNvSpPr/>
          <p:nvPr/>
        </p:nvSpPr>
        <p:spPr>
          <a:xfrm>
            <a:off x="1371600" y="4572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114300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1523880" y="12193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raph /sh/ 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’s pants were too sh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 was in shoc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 will shop for more pants,” Trish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 dashed down a p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t was a shortcut to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n a flash, Trish was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he saw pants with sh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 got then off the sh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But Trish could not get the p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he forgot her ca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1. sho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2. s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3. sh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4. ru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5. w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6. 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7.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8.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9. f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10. 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- to spell words with /sh/, /or/, and sight wor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ting is where and when a story t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What is the setting in “Senor Coyote, the Judge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What is the setting in “King Midas and His Gold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28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- To identify and describe a sett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56:22Z</dcterms:created>
  <dc:creator>Federated Group</dc:creator>
  <dc:description/>
  <dc:language>en-US</dc:language>
  <cp:lastModifiedBy>Valued Gateway Client</cp:lastModifiedBy>
  <dcterms:modified xsi:type="dcterms:W3CDTF">2008-11-19T13:41:29Z</dcterms:modified>
  <cp:revision>3</cp:revision>
  <dc:subject/>
  <dc:title>PowerPoint Presentation</dc:title>
</cp:coreProperties>
</file>