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gif" ContentType="image/gif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2B0E-3749-437B-88A2-61B233EF7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C0C3-3912-4643-8C57-AD4AB3DBF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53DD-9D73-4AB3-A8CC-9A3D5C1A2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3D45-691C-4AAE-8380-E51BA890C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98FF-7C51-42F2-B721-27E66711F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EDF9-54E1-4D06-BAD8-D33251502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FFAC-9EE8-4A08-A3BE-A589AA76A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6938-51C7-4E2E-9A1B-C54F2B33F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5134-5048-4812-9773-3D1EEE7C9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8629-42C8-470D-8557-85FB9DF0F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FD3E-54F4-4862-9CC1-674A0A07F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12D8-D903-4834-B2CC-856939743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D1F2F-61D2-4784-BCA0-239EB1C01C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09680" y="3808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dnesd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ovember 19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esson 12, Day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ding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 to www. thinkcentral.com for “Gold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ey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590920" y="2895480"/>
            <a:ext cx="3886200" cy="31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reed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equ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gr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57600" y="3049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jective- to develop robust vocabulary to describe idea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greed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reedy person wants a lot of something and does not want to share any of i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286000" y="3276720"/>
            <a:ext cx="4724280" cy="33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equ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equences are things that happen as the result of another action. If I walk on thin ice, the consequence might be that I fall through the ic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648320" y="4038480"/>
            <a:ext cx="2743200" cy="21700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295280" y="4000680"/>
            <a:ext cx="289584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r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erson who has a regret feels sorry for something he or she di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819520" y="2971800"/>
            <a:ext cx="317160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rammar-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Special names and pla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artinez Sp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ll country fire s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telli libr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’s gas s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05120" y="2286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ive- to apply knowledge of using capital letters to begin each word in a special place-nam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304920" y="0"/>
            <a:ext cx="7391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000000"/>
                </a:solidFill>
                <a:uFillTx/>
                <a:latin typeface="Constantia"/>
              </a:rPr>
              <a:t>Riddl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685800" y="990720"/>
            <a:ext cx="70866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ntences give clues about someth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clues us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me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, and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my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ues begin with a capital letter and end with a perio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 question ends the ridd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question begins with a capital letter and ends with a question mar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6553080" y="15228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Objective: To develop a list of criteria for effective ridd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dd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 was sof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You can see me on the king’s b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 am gol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What am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800600" y="1522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- to write a ridd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255480" y="304920"/>
            <a:ext cx="567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Objective: To listen and respond appropriately to oral communica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02000" y="990720"/>
            <a:ext cx="564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o you like to play? How do you feel while you play th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like to play _____. It makes me feel ______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7238880" y="0"/>
            <a:ext cx="1905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To develop the ability to listen for a purpos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4" descr="MPj04394050000[1]"/>
          <p:cNvPicPr/>
          <p:nvPr/>
        </p:nvPicPr>
        <p:blipFill>
          <a:blip r:embed="rId1"/>
          <a:stretch/>
        </p:blipFill>
        <p:spPr>
          <a:xfrm>
            <a:off x="744480" y="1600200"/>
            <a:ext cx="3462480" cy="45259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9"/>
          <p:cNvSpPr/>
          <p:nvPr/>
        </p:nvSpPr>
        <p:spPr>
          <a:xfrm>
            <a:off x="4191120" y="1600200"/>
            <a:ext cx="4343400" cy="37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73"/>
                </a:solidFill>
                <a:latin typeface="Comic Sans MS"/>
              </a:rPr>
              <a:t>Read Aloud 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cc6600"/>
                </a:solidFill>
                <a:latin typeface="Comic Sans MS"/>
              </a:rPr>
              <a:t>In the San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457200" y="838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Big Book of Rhymes and Po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itle 3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cc"/>
                </a:solidFill>
                <a:latin typeface="Times New Roman"/>
              </a:rPr>
              <a:t>This Week’s Sight 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Content Placeholder 5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6858000" y="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Objective: To read high frequency word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Placeholder 4"/>
          <p:cNvSpPr/>
          <p:nvPr/>
        </p:nvSpPr>
        <p:spPr>
          <a:xfrm>
            <a:off x="1295280" y="1752480"/>
            <a:ext cx="4038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Comic Sans MS"/>
              </a:rPr>
              <a:t>cou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Comic Sans MS"/>
              </a:rPr>
              <a:t>happ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Comic Sans MS"/>
              </a:rPr>
              <a:t>g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Comic Sans MS"/>
              </a:rPr>
              <a:t>n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Comic Sans MS"/>
              </a:rPr>
              <a:t>the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Content Placeholder 5"/>
          <p:cNvSpPr/>
          <p:nvPr/>
        </p:nvSpPr>
        <p:spPr>
          <a:xfrm>
            <a:off x="4800600" y="175248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Comic Sans MS"/>
              </a:rPr>
              <a:t>sa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Comic Sans MS"/>
              </a:rPr>
              <a:t>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Comic Sans MS"/>
              </a:rPr>
              <a:t>w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Comic Sans MS"/>
              </a:rPr>
              <a:t>c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Comic Sans MS"/>
              </a:rPr>
              <a:t>m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7238880" y="0"/>
            <a:ext cx="19051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To segment phonemes in word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457200" y="0"/>
            <a:ext cx="82900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c00000"/>
                </a:solidFill>
                <a:uFillTx/>
                <a:latin typeface="Times New Roman"/>
              </a:rPr>
              <a:t>Phonemic Awarenes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Times New Roman"/>
              </a:rPr>
              <a:t>Phoneme Segmen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clip0000" descr=""/>
          <p:cNvPicPr/>
          <p:nvPr/>
        </p:nvPicPr>
        <p:blipFill>
          <a:blip r:embed="rId1"/>
          <a:stretch/>
        </p:blipFill>
        <p:spPr>
          <a:xfrm>
            <a:off x="3200400" y="2514600"/>
            <a:ext cx="2328840" cy="26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1523880" y="0"/>
            <a:ext cx="6019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228600" y="1219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7315200" y="0"/>
            <a:ext cx="1828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Objective: To build and blend words with /or/ and other known letter-sound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457200" y="1219320"/>
            <a:ext cx="457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1600200" y="2514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0"/>
          <p:cNvSpPr/>
          <p:nvPr/>
        </p:nvSpPr>
        <p:spPr>
          <a:xfrm>
            <a:off x="304920" y="251460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11"/>
          <p:cNvSpPr/>
          <p:nvPr/>
        </p:nvSpPr>
        <p:spPr>
          <a:xfrm>
            <a:off x="1676520" y="3429000"/>
            <a:ext cx="609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2"/>
          <p:cNvSpPr/>
          <p:nvPr/>
        </p:nvSpPr>
        <p:spPr>
          <a:xfrm>
            <a:off x="380880" y="3429000"/>
            <a:ext cx="990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14"/>
          <p:cNvSpPr/>
          <p:nvPr/>
        </p:nvSpPr>
        <p:spPr>
          <a:xfrm>
            <a:off x="914400" y="4572000"/>
            <a:ext cx="457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5"/>
          <p:cNvSpPr/>
          <p:nvPr/>
        </p:nvSpPr>
        <p:spPr>
          <a:xfrm>
            <a:off x="533520" y="457200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6"/>
          <p:cNvSpPr/>
          <p:nvPr/>
        </p:nvSpPr>
        <p:spPr>
          <a:xfrm>
            <a:off x="0" y="45720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18"/>
          <p:cNvSpPr/>
          <p:nvPr/>
        </p:nvSpPr>
        <p:spPr>
          <a:xfrm>
            <a:off x="4343400" y="160020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Box 19"/>
          <p:cNvSpPr/>
          <p:nvPr/>
        </p:nvSpPr>
        <p:spPr>
          <a:xfrm>
            <a:off x="5105520" y="160020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Box 22"/>
          <p:cNvSpPr/>
          <p:nvPr/>
        </p:nvSpPr>
        <p:spPr>
          <a:xfrm>
            <a:off x="4191120" y="251460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Box 23"/>
          <p:cNvSpPr/>
          <p:nvPr/>
        </p:nvSpPr>
        <p:spPr>
          <a:xfrm>
            <a:off x="4876920" y="251460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Box 24"/>
          <p:cNvSpPr/>
          <p:nvPr/>
        </p:nvSpPr>
        <p:spPr>
          <a:xfrm>
            <a:off x="5486400" y="16002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Box 28"/>
          <p:cNvSpPr/>
          <p:nvPr/>
        </p:nvSpPr>
        <p:spPr>
          <a:xfrm>
            <a:off x="5105520" y="251460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Box 25"/>
          <p:cNvSpPr/>
          <p:nvPr/>
        </p:nvSpPr>
        <p:spPr>
          <a:xfrm>
            <a:off x="1066680" y="121932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Box 29"/>
          <p:cNvSpPr/>
          <p:nvPr/>
        </p:nvSpPr>
        <p:spPr>
          <a:xfrm>
            <a:off x="1219320" y="34290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Box 30"/>
          <p:cNvSpPr/>
          <p:nvPr/>
        </p:nvSpPr>
        <p:spPr>
          <a:xfrm>
            <a:off x="1371600" y="45720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Box 34"/>
          <p:cNvSpPr/>
          <p:nvPr/>
        </p:nvSpPr>
        <p:spPr>
          <a:xfrm>
            <a:off x="1143000" y="251460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Box 35"/>
          <p:cNvSpPr/>
          <p:nvPr/>
        </p:nvSpPr>
        <p:spPr>
          <a:xfrm>
            <a:off x="1523880" y="121932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graph /sh/ sh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Trish’s pants were too sho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Trish was in shock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I will shop for more pants,” Trish sa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Trish dashed down a path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It was a shortcut to the sho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In a flash, Trish was in the sho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She saw pants with shel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Trish got then off the shel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But Trish could not get the pa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She forgot her cas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lling 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1. sho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2. sho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3. shu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4. rus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5. wis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haroni"/>
                <a:ea typeface="Aharoni"/>
              </a:rPr>
              <a:t>6. fi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haroni"/>
                <a:ea typeface="Aharoni"/>
              </a:rPr>
              <a:t>7. f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haroni"/>
                <a:ea typeface="Aharoni"/>
              </a:rPr>
              <a:t>8. mo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haroni"/>
                <a:ea typeface="Aharoni"/>
              </a:rPr>
              <a:t>9. f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haroni"/>
                <a:ea typeface="Aharoni"/>
              </a:rPr>
              <a:t>10. v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81480" y="0"/>
            <a:ext cx="358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jective- to spell words with /sh/, /or/, and sight word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91440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etting is where and when a story t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c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What is the setting in “Senor Coyote, the Judge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What is the setting in “King Midas and His Gold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0" y="22860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ive- To identify and describe a setting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9T01:56:22Z</dcterms:created>
  <dc:creator>Federated Group</dc:creator>
  <dc:description/>
  <dc:language>en-US</dc:language>
  <cp:lastModifiedBy>Valued Gateway Client</cp:lastModifiedBy>
  <dcterms:modified xsi:type="dcterms:W3CDTF">2008-11-19T13:41:29Z</dcterms:modified>
  <cp:revision>3</cp:revision>
  <dc:subject/>
  <dc:title>PowerPoint Presentation</dc:title>
</cp:coreProperties>
</file>