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013F-3385-46CA-9727-2CD22FC04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435E-B7C3-492A-9489-F0B503AB4B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E81A-84AE-4CFE-9803-212FB28165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F73B-2089-407E-BF77-3640BEAE73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A51C-ADD8-428A-9669-84B291BAF1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2C5E-3C92-43A6-BCFB-CF288D7619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F2E-7F40-4164-8224-A911EE2F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9B0-FDE7-4E98-8155-01BB1716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D80-0DB7-4EF5-B4EC-D6CEDF05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46F3-5F27-4AC0-8912-C8192A61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01DB-2230-4275-B455-2428B2BA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2E13-1E19-4E0B-B51D-66BAE5AA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08C9-4A8C-462D-AE14-8F2A6835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112C-89D2-44DE-B18C-F24531C1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3814-4FE0-4952-B90D-42015653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8A62-2768-4D32-9033-E22976CE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F373-8FEB-44A3-9A7A-A6A332DC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6B4-D983-446A-8A0F-E7B0867C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7005-CC22-45C6-BCE2-ADFADBFB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A0F8-F70D-4D0D-A74C-FF02D32D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20C1-4D85-40CB-8D48-B7BCD77C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7933-2E45-464A-863E-F2CB5FB7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F021-28FE-47C0-A192-A63B9BDE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EAE-6189-4BD1-ACBD-74604805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1E5-9670-48F1-A50C-821A1377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DE3-19D3-4D8D-BE49-C905CB7D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232-2846-4444-9F4F-69A1B3E9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8AE-95F8-4B35-9D51-896B91D7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7D0-FCDE-454A-9928-BAB978C1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4E24-DC4E-4790-AF61-ED2E6C64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8F92-5832-4DFB-AEFF-FA080CBAE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61C5-1C71-43EB-9E1E-115C75718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09480" y="2819520"/>
            <a:ext cx="8077320" cy="30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ursd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vember 20, 200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12 Day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1143000"/>
            <a:ext cx="7696080" cy="60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00"/>
                </a:solidFill>
                <a:latin typeface="Times New Roman"/>
              </a:rPr>
              <a:t>Consonant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00"/>
                </a:solidFill>
                <a:latin typeface="Times New Roman"/>
              </a:rPr>
              <a:t>Blends Wit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00"/>
                </a:solidFill>
                <a:latin typeface="Times New Roman"/>
              </a:rPr>
              <a:t>l, r, and 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0"/>
            <a:ext cx="6629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Objective: To identify initial blends with l, r, and s in wo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To read words with initial blends with l, r, and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533520"/>
            <a:ext cx="7543800" cy="35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inces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49568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Remember that this is one of the words that we read in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Times New Roman"/>
              </a:rPr>
              <a:t>King Midas and his Gold. 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Notice that this word has a consonant blend – pr - princes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0"/>
            <a:ext cx="807696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et’s see which words we can make with the following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 bl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c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533520"/>
            <a:ext cx="327636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l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n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w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c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77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77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30" dur="20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5" dur="20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2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3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5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8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et’s see which words we can make with the following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bl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15238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g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1219320"/>
            <a:ext cx="190512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l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la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gl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l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46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8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30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t’s see which words we can make with the following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r bl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914400"/>
            <a:ext cx="28191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b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d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f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g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90720"/>
            <a:ext cx="30481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bro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ra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dri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fr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gr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rin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a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9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8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4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4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4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4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71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you come here,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r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” ask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nd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ndda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r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ooked in the clo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ndda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li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ut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lack trun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red flipp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pen the l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saw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rass clo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 r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lanke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nd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 fla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ndda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ot out a gol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umpe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rumpet is for you,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r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” he sa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 you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ndda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” sai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r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o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la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have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umpe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pelling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haroni"/>
                <a:ea typeface="Aharoni"/>
              </a:rPr>
              <a:t>1.</a:t>
            </a:r>
            <a:r>
              <a:rPr b="0" lang="en-US" sz="4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haroni"/>
                <a:ea typeface="Aharoni"/>
              </a:rPr>
              <a:t>shop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haroni"/>
                <a:ea typeface="Aharoni"/>
              </a:rPr>
              <a:t>2. sh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haroni"/>
                <a:ea typeface="Aharoni"/>
              </a:rPr>
              <a:t>3. shu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haroni"/>
                <a:ea typeface="Aharoni"/>
              </a:rPr>
              <a:t>4. rus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haroni"/>
                <a:ea typeface="Aharoni"/>
              </a:rPr>
              <a:t>5. wis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haroni"/>
                <a:ea typeface="Aharoni"/>
              </a:rPr>
              <a:t>6.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haroni"/>
                <a:ea typeface="Aharoni"/>
              </a:rPr>
              <a:t>fis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haroni"/>
                <a:ea typeface="Aharoni"/>
              </a:rPr>
              <a:t>7. f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haroni"/>
                <a:ea typeface="Aharoni"/>
              </a:rPr>
              <a:t>8. mo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haroni"/>
                <a:ea typeface="Aharoni"/>
              </a:rPr>
              <a:t>9. fro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haroni"/>
                <a:ea typeface="Aharoni"/>
              </a:rPr>
              <a:t>10. ve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0"/>
            <a:ext cx="8382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Objective- to use /sh/ sh and other known letter-sounds to spell and write wor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o spell and write known high frequency wor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0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5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0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4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4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바탕"/>
                <a:ea typeface="바탕"/>
              </a:rPr>
              <a:t>Words to Kno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575d1"/>
                </a:solidFill>
                <a:latin typeface="Comic Sans MS"/>
              </a:rPr>
              <a:t>cou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hap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n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s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c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m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6629400" y="57150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bjective:  To read high-frequency word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IMGP3219-718608.jpg"/>
          <p:cNvPicPr/>
          <p:nvPr/>
        </p:nvPicPr>
        <p:blipFill>
          <a:blip r:embed="rId1"/>
          <a:stretch/>
        </p:blipFill>
        <p:spPr>
          <a:xfrm>
            <a:off x="3305160" y="990720"/>
            <a:ext cx="51246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7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28600" y="380880"/>
            <a:ext cx="8915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etting - where a story takes place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nd when it happens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61722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bjective: To recognize setting while listening to a s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89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Let’s read Ugh! A Bug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Where is the bug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What do you think the setting of the story is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28600" y="1066680"/>
            <a:ext cx="86868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Question of the Da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619360" y="1257480"/>
            <a:ext cx="3905280" cy="3528720"/>
            <a:chOff x="2619360" y="1257480"/>
            <a:chExt cx="3905280" cy="3528720"/>
          </a:xfrm>
        </p:grpSpPr>
        <p:sp>
          <p:nvSpPr>
            <p:cNvPr id="177" name="_s111628"/>
            <p:cNvSpPr/>
            <p:nvPr/>
          </p:nvSpPr>
          <p:spPr>
            <a:xfrm flipH="1">
              <a:off x="3631680" y="3699000"/>
              <a:ext cx="468360" cy="27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111627"/>
            <p:cNvSpPr/>
            <p:nvPr/>
          </p:nvSpPr>
          <p:spPr>
            <a:xfrm>
              <a:off x="2619360" y="3700440"/>
              <a:ext cx="1085760" cy="1085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re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_s111626"/>
            <p:cNvSpPr/>
            <p:nvPr/>
          </p:nvSpPr>
          <p:spPr>
            <a:xfrm>
              <a:off x="5041800" y="3700440"/>
              <a:ext cx="470160" cy="27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111625"/>
            <p:cNvSpPr/>
            <p:nvPr/>
          </p:nvSpPr>
          <p:spPr>
            <a:xfrm>
              <a:off x="5438880" y="3699000"/>
              <a:ext cx="1085760" cy="1085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lan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_s111624"/>
            <p:cNvSpPr/>
            <p:nvPr/>
          </p:nvSpPr>
          <p:spPr>
            <a:xfrm flipV="1">
              <a:off x="4572000" y="2343240"/>
              <a:ext cx="0" cy="54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_s111623"/>
            <p:cNvSpPr/>
            <p:nvPr/>
          </p:nvSpPr>
          <p:spPr>
            <a:xfrm>
              <a:off x="4029120" y="1257480"/>
              <a:ext cx="1085760" cy="1085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low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111622"/>
            <p:cNvSpPr/>
            <p:nvPr/>
          </p:nvSpPr>
          <p:spPr>
            <a:xfrm>
              <a:off x="4029120" y="2886120"/>
              <a:ext cx="1085760" cy="1085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etting: wood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or gard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828800"/>
            <a:ext cx="80773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obust Vocabulary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380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Objective: To review robust vocabul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3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447920"/>
            <a:ext cx="77724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ed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ec94"/>
                </a:solidFill>
                <a:latin typeface="Times New Roman"/>
              </a:rPr>
              <a:t>greedy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dy person wants a lot of something and does not want to share any of 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72428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04920" y="228600"/>
            <a:ext cx="807696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Times New Roman"/>
              </a:rPr>
              <a:t>Do you think a greedy person would share? Why or why n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Times New Roman"/>
              </a:rPr>
              <a:t>If a person is greedy about watching TV, what might the pers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cc00"/>
                </a:solidFill>
                <a:latin typeface="Times New Roman"/>
              </a:rPr>
              <a:t>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Times New Roman"/>
              </a:rPr>
              <a:t>How would a greedy dog act with a b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8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3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33520" y="914400"/>
            <a:ext cx="79246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quenc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sequen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 are things that happen as the result of another action. If I walk on thin ice, the consequence might be that I fall through the i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0" y="3352680"/>
            <a:ext cx="3352680" cy="2170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295280" y="4000680"/>
            <a:ext cx="27432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4920" y="380880"/>
            <a:ext cx="82296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What would some consequences be if you did not clean your roo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What are some good consequences of sharing toys with a frien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What are some bad consequences of not sharing toys with a frien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77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5" dur="77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7" dur="77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9" dur="77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914400" y="1371600"/>
            <a:ext cx="72388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gre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gre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erson who has a regret feels sorry for something he or she di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1716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762120"/>
            <a:ext cx="762012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What do you do that makes you really happ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I am happy when I ____________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28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Objective: To determine a purpose for list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457200"/>
            <a:ext cx="7848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Would you regret spilling your milk? Why or why no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Suppose you ate the last cookie.  Would you regret i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Would you regret helping your family set the table? Why or why no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609480"/>
            <a:ext cx="77724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pecial nam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f plac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cc00"/>
                </a:solidFill>
                <a:latin typeface="Times New Roman"/>
              </a:rPr>
              <a:t>Remember that special names of places only belong to that place.  Each word in a special name begins with a capital lett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9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5333760" cy="2895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0880" y="3429000"/>
            <a:ext cx="84582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Do you know the muffin man, the muffin man, the muffin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Do you know the muffin man who lives on drury la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What is the special name of a place in this sente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0880" y="228600"/>
            <a:ext cx="8382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cial names of plac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1371600"/>
            <a:ext cx="79246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drury la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river roa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kennedy boulev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first stre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belmont aven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04920" y="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eec94"/>
                </a:solidFill>
                <a:uFillTx/>
                <a:latin typeface="Constantia"/>
              </a:rPr>
              <a:t>Riddl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685800" y="990720"/>
            <a:ext cx="7086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entences give clues about someth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 clues us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y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ues begin with a capital letter and end with a peri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question ends the ridd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 question begins with a capital letter and ends with a question m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6a03"/>
                </a:solidFill>
                <a:latin typeface="Arial"/>
              </a:rPr>
              <a:t>Objective: To develop a list of criteria for effective ridd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380880"/>
            <a:ext cx="7467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iddl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243828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 have a zipp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ildren carry books in 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ildren wear me on their back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What am 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90960" y="-360"/>
            <a:ext cx="3352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Objective: To listen attentively and respond appropriately to poetry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30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4191120" y="1600200"/>
            <a:ext cx="434340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omic Sans MS"/>
              </a:rPr>
              <a:t>Read Al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00"/>
                </a:solidFill>
                <a:latin typeface="Comic Sans MS"/>
              </a:rPr>
              <a:t>Contentmen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457200" y="838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0"/>
            <a:ext cx="7543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e are going to read a poem called Contentment.  Contentment means feeling happy with the way things are right now.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Let’s read the poem to see what makes the poet happy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0"/>
            <a:ext cx="79246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ten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would like to be wis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would like to be str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would like to be right and never be wr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ut since none of this is likely to b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’m really quite happy to be only 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ight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ou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ap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n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6858000" y="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76a03"/>
                </a:solidFill>
                <a:latin typeface="Times New Roman"/>
              </a:rPr>
              <a:t>Objective: To segment phonemes in words.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90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Phonemic Awarenes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honeme Seg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066680" y="49528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Aharoni"/>
                <a:ea typeface="Aharoni"/>
              </a:rPr>
              <a:t>If You’re Happy and You Know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C:\Users\Janice\AppData\Local\Microsoft\Windows\Temporary Internet Files\Content.IE5\AETH7CGB\MCj03793990000[1].wmf"/>
          <p:cNvPicPr/>
          <p:nvPr/>
        </p:nvPicPr>
        <p:blipFill>
          <a:blip r:embed="rId1"/>
          <a:stretch/>
        </p:blipFill>
        <p:spPr>
          <a:xfrm>
            <a:off x="685800" y="4952880"/>
            <a:ext cx="957240" cy="1192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Users\Janice\AppData\Local\Microsoft\Windows\Temporary Internet Files\Content.IE5\AETH7CGB\MCj03793990000[1].wmf"/>
          <p:cNvPicPr/>
          <p:nvPr/>
        </p:nvPicPr>
        <p:blipFill>
          <a:blip r:embed="rId2"/>
          <a:stretch/>
        </p:blipFill>
        <p:spPr>
          <a:xfrm>
            <a:off x="7315200" y="5029200"/>
            <a:ext cx="957240" cy="1192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happy.jpg"/>
          <p:cNvPicPr/>
          <p:nvPr/>
        </p:nvPicPr>
        <p:blipFill>
          <a:blip r:embed="rId3"/>
          <a:stretch/>
        </p:blipFill>
        <p:spPr>
          <a:xfrm>
            <a:off x="2898720" y="2286000"/>
            <a:ext cx="3622680" cy="24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2" descr="C:\Users\Janice\AppData\Local\Microsoft\Windows\Temporary Internet Files\Content.IE5\CVW5V2AD\MCj03974940000[1].wmf"/>
          <p:cNvPicPr/>
          <p:nvPr/>
        </p:nvPicPr>
        <p:blipFill>
          <a:blip r:embed="rId1"/>
          <a:stretch/>
        </p:blipFill>
        <p:spPr>
          <a:xfrm>
            <a:off x="5257800" y="380880"/>
            <a:ext cx="2438280" cy="59436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Objective: To segment recognizable words into phonemes.</a:t>
            </a: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2860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Let’s 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0" y="1143000"/>
            <a:ext cx="563868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You will sing a song and say the sounds that make up each word.  Sing to the tune of “If You’re Happy and You Know I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If you know the sounds in </a:t>
            </a:r>
            <a:r>
              <a:rPr b="0" i="1" lang="en-US" sz="2400" spc="-1" strike="noStrike">
                <a:solidFill>
                  <a:srgbClr val="00cc00"/>
                </a:solidFill>
                <a:latin typeface="Comic Sans MS"/>
              </a:rPr>
              <a:t>hat,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 sound them out. /h/ /a/ /t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If you know the sounds in</a:t>
            </a:r>
            <a:r>
              <a:rPr b="0" i="1" lang="en-US" sz="2400" spc="-1" strike="noStrike">
                <a:solidFill>
                  <a:srgbClr val="00cc00"/>
                </a:solidFill>
                <a:latin typeface="Comic Sans MS"/>
              </a:rPr>
              <a:t> hat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, sound them out. /h/ /a/ /t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If you know the sounds in hat, then you’re a sound out s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If you know the sounds in hat, sound them out. /h/ /a/ /t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7467480" y="762120"/>
            <a:ext cx="167652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sk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pl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sh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la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bo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sp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clim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sh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fi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7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7:19:59Z</dcterms:created>
  <dc:creator>Valued Gateway Client</dc:creator>
  <dc:description/>
  <dc:language>en-US</dc:language>
  <cp:lastModifiedBy>Valued Gateway Client</cp:lastModifiedBy>
  <dcterms:modified xsi:type="dcterms:W3CDTF">2008-11-20T01:22:17Z</dcterms:modified>
  <cp:revision>5</cp:revision>
  <dc:subject/>
  <dc:title>Slide 1</dc:title>
</cp:coreProperties>
</file>