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BD01-C681-4EB3-AF6F-A60AE162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D76F-4D70-4D30-9434-F45F69A6C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E87-2728-4B66-8F42-DE894A04B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E98E-6272-433D-9F3D-45EF6B805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BD0-7E1D-45D0-911F-70946D0F5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F3A3-38B7-4952-BB64-67A86465E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7B5-8D79-4E9A-ACCC-E2085D58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6B8-9068-4DF4-B659-75B8F1F8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905-47A7-44A5-9C33-651F4E1F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2C3-9CD4-4327-A60B-09D35C0F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C6F7-61BF-4132-B24F-73BCE89F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EAE-EE15-4594-AB6F-00EE560C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4CC9-8C89-4EC6-8910-7C6CBE5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655-B927-4DA0-A9F3-EE568A7C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1061-088C-4EAB-BAFF-FE8CA33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C14D-3C88-443D-8EC5-6C5E6CB2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6270-B92A-4E89-AE67-28E547BB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A51-1DD0-4B96-85DA-A21F97E0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3BD5-502F-471B-A459-502D2831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0A1-1412-4D1F-A39A-1E851E5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8008-4CE7-4FB6-BEDD-D37BF23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A28A-A6CD-4B42-9784-4FE7B1D7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C51-09FD-46D0-ADED-1B70CEBD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D22-CBD1-443C-89A6-2B347114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8CA-518F-40D7-A3F5-233585C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F99-02CD-40BA-95FA-1812C5C5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D16-4BE9-4AC3-88D6-06A7D95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DDD-A7A6-483B-BBBB-63A5D012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892-84BD-4DA0-A970-082D12A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436-DF52-4DCC-BD77-642086F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95C-47F6-4F0B-9D2C-C769D4275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9DBC-9BC9-43A9-A89F-2FF0FC593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2819520"/>
            <a:ext cx="8077320" cy="30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urs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vember 20,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2 Day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143000"/>
            <a:ext cx="7696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Consonant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Blends Wit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l, r, and 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identify initial blends with l, r, and s in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To read words with initial blends with l, r, and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533520"/>
            <a:ext cx="7543800" cy="35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inc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4956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Remember that this is one of the words that we read in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Times New Roman"/>
              </a:rPr>
              <a:t>King Midas and his Gold.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Notice that this word has a consonant blend – pr - princ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33520"/>
            <a:ext cx="32763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5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5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1523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219320"/>
            <a:ext cx="19051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a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77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77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914400"/>
            <a:ext cx="2819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90720"/>
            <a:ext cx="30481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in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0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you come here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” ask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oked in the clo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l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ut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ck trun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 flipp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 the 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saw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rass c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nk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 fla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ot out a gol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umpet is for you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” he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sai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l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have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ll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1.</a:t>
            </a:r>
            <a:r>
              <a:rPr b="0" lang="en-US" sz="4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6.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0"/>
            <a:ext cx="8382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jective- to use /sh/ sh and other known letter-sounds to spell and write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 spell and write known high frequency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바탕"/>
                <a:ea typeface="바탕"/>
              </a:rPr>
              <a:t>Words to Kn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8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8600" y="380880"/>
            <a:ext cx="8915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tting - where a story takes plac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d when it happens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6172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bjective: To recognize setting while listening to a 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9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Let’s read Ugh! A Bu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ere is the bug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at do you think the setting of the story i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8600" y="1066680"/>
            <a:ext cx="8686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177" name="_s111628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11627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11626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11625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la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111624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111623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low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11622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tting: woo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 gar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828800"/>
            <a:ext cx="807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80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review robust vocabul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447920"/>
            <a:ext cx="7772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d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greed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228600"/>
            <a:ext cx="807696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 you think a greedy person would share? Why or why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If a person is greedy about watching TV, what might the per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How would a greedy dog act with a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914400"/>
            <a:ext cx="79246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qu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3526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743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380880"/>
            <a:ext cx="82296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would some consequences be if you did not clean your roo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good consequences of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bad consequences of not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6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14400" y="137160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gr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gr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762120"/>
            <a:ext cx="7620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What do you do that makes you really happ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I am happy when I 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bjective: To determine a purpose for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57200"/>
            <a:ext cx="7848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spilling your milk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Suppose you ate the last cookie.  Would you regret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helping your family set the table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60948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pecial nam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pla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Times New Roman"/>
              </a:rPr>
              <a:t>Remember that special names of places only belong to that place.  Each word in a special name begins with a capital let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333760" cy="289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34290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, the muffin man, the muffi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 who lives on drury la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What is the special name of a place in this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228600"/>
            <a:ext cx="8382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cial names of plac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371600"/>
            <a:ext cx="7924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drury la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river ro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kennedy boulev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first stre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belmont a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eec94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6a03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380880"/>
            <a:ext cx="746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d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43828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 have a zipp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carry books in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wear me on their back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352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Objective: To listen attentively and respond appropriately to poetry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 A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00"/>
                </a:solidFill>
                <a:latin typeface="Comic Sans MS"/>
              </a:rPr>
              <a:t>Content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0"/>
            <a:ext cx="7543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 are going to read a poem called Contentment.  Contentment means feeling happy with the way things are right now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t’s read the poem to see what makes the poet happ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79246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n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wi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st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right and never be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ut since none of this is likely to b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’m really quite happy to be only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ght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76a03"/>
                </a:solidFill>
                <a:latin typeface="Times New Roman"/>
              </a:rPr>
              <a:t>Objective: To segment phonemes in words.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haroni"/>
                <a:ea typeface="Aharoni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Objective: To segment recognizable words into phonemes.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hat,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 hat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then you’re a sound out 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7467480" y="762120"/>
            <a:ext cx="16765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k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pl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b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clim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7:19:59Z</dcterms:created>
  <dc:creator>Valued Gateway Client</dc:creator>
  <dc:description/>
  <dc:language>en-US</dc:language>
  <cp:lastModifiedBy>Valued Gateway Client</cp:lastModifiedBy>
  <dcterms:modified xsi:type="dcterms:W3CDTF">2008-11-20T01:22:17Z</dcterms:modified>
  <cp:revision>5</cp:revision>
  <dc:subject/>
  <dc:title>Slide 1</dc:title>
</cp:coreProperties>
</file>