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0B2-DD50-464B-B704-F6B71E86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07F-49AB-41A0-9B66-0BC0692A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C50-D825-47E4-927E-E3DA56DC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1DE-5737-44AC-B541-B96A39C2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06A-A3D4-4848-A5E5-978FE451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9F76-1617-4B31-B6E8-432EA60C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3A6-1F63-4CCA-9EE3-CE8BBB3A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222-CA2F-4612-8264-0D306199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4743-F7EE-42E1-BFC0-A7957D11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187-A097-4A4C-B12D-26CC6BC3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CB3-A2FA-41B9-A18A-11E33933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307-31E7-4E5E-934B-9223603C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D3B4-1F51-417A-A54E-E43724508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2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2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7520" y="0"/>
            <a:ext cx="2076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describe the setting of a sel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etting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066680"/>
          <a:ext cx="8229600" cy="5477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g Midas and His Gold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or Coyote, the Judg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gh! A Bug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some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14600" y="2514600"/>
            <a:ext cx="42670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36576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095880" y="14479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00200" y="17524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057400" y="3733920"/>
            <a:ext cx="1295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724280"/>
            <a:ext cx="221004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57200"/>
            <a:ext cx="2209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4724280"/>
            <a:ext cx="221004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685800"/>
            <a:ext cx="2209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28195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5105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5105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838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14600" y="2514600"/>
            <a:ext cx="42670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36576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095880" y="14479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600200" y="17524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057400" y="3733920"/>
            <a:ext cx="1295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724280"/>
            <a:ext cx="221004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457200"/>
            <a:ext cx="2209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4724280"/>
            <a:ext cx="221004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85800"/>
            <a:ext cx="2209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28195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105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5105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838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would it be good to be w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would it be good to be stro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ould like to be _______ because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15192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tinguish between real and make-belie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1752480"/>
            <a:ext cx="441972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Read Aloud             “Contentment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re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recognizable words;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304560"/>
            <a:ext cx="5181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initial blends l, s,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itial Blends with l, s, 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133720"/>
            <a:ext cx="59436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initial blends l, s,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28600"/>
            <a:ext cx="84582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itial Blends with l, s, 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066680"/>
            <a:ext cx="33526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nd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1155600"/>
            <a:ext cx="335304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n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m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and write known high-frequenc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8600"/>
            <a:ext cx="9144000" cy="65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pell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your name, date, and the numbers 1 to 10 on your pap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back write one of the sentences and illustr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I wish for a 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 must rush to the shop to get more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igh Frequency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7:04Z</dcterms:modified>
  <cp:revision>88</cp:revision>
  <dc:subject/>
  <dc:title>Slide 1</dc:title>
</cp:coreProperties>
</file>