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AC6-9411-498B-82A3-B97562D6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75D-97AD-45A6-9A27-5EA4AB7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826-AF74-4179-B46B-74D3A868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117-FA24-42DD-AA1B-8D7C3449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3DD-999A-4223-8458-FA2ED7D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C6A-A4F4-4567-951E-16149713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519-E99C-4036-88A7-8478048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D4E-DD01-43CC-8EE0-59593306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0A3-8F7C-4370-BA08-6436377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92A-7655-4686-BBDF-6808B4BC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881-68CD-40AE-9CAF-1EDC95C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768-93EE-4285-ACEE-CE02B1DD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77C7-1B12-45BB-A875-A840096B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7520" y="0"/>
            <a:ext cx="207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describe the setting of a se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tt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066680"/>
          <a:ext cx="8229600" cy="54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 Midas and His Gol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or Coyote, the Jud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gh! A Bug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om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2514600"/>
            <a:ext cx="42670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6576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95880" y="1447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00200" y="17524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7400" y="37339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572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858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8195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2514600"/>
            <a:ext cx="42670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6576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095880" y="1447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00200" y="17524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057400" y="37339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572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858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2819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would it be good to be w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would it be good to be stro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be _______ becaus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15192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between real and make-belie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1752480"/>
            <a:ext cx="441972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ead Aloud             “Contentment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initial blends l, s,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l, s,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133720"/>
            <a:ext cx="5943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initial blends l, s,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84582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l, s,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066680"/>
            <a:ext cx="33526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d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155600"/>
            <a:ext cx="33530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and write known high-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"/>
            <a:ext cx="9144000" cy="65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ll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your name, date, and the numbers 1 to 10 on your pap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back write one of the sentences and illustr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I wish for a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 must rush to the shop to get more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7:04Z</dcterms:modified>
  <cp:revision>88</cp:revision>
  <dc:subject/>
  <dc:title>Slide 1</dc:title>
</cp:coreProperties>
</file>