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gif" ContentType="image/gi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B55-B444-4493-9B64-95D7419D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7A9-8DD5-4C16-99DB-42F009D5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F99-67F9-4805-A9E2-C487DBD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4DD-6E59-47D0-BD5C-70A569F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F80-F898-40C3-8998-9713570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E63-A394-4640-9566-B205D39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158-06F7-40C8-B898-E55E2C71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F76-DC5F-4E46-A8BF-7346557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836-84FA-495E-B4AC-B603EAA9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399-261F-4699-BB80-1A14FBF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DEA-06A8-4B4B-9227-75CF6696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5D9-413B-44B2-9B9B-C64E808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AA5-CF44-445B-BA75-FE5E7BE1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ich stands to get a branch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Grow just an inch more!” Mom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Rich Gets Bi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rry and the Monarch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019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530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 firefl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likes t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,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ch/ c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in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u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2-01T05:11:50Z</dcterms:modified>
  <cp:revision>90</cp:revision>
  <dc:subject/>
  <dc:title>Slide 1</dc:title>
</cp:coreProperties>
</file>