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gif" ContentType="image/gi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CA7-D9BA-4902-84CA-FE0A3A05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F6B-A21D-44FC-B9A6-10BE2F0A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938-DE0F-4480-92AB-AD30577D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5F6-F31F-4932-B0BF-5B5A26C4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A17-01D2-42C3-B134-3F61E76E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EB7-01D3-4C09-9E2B-04CB9582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942-B0A4-4D84-87AF-76E6543E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8DD-2E3D-4401-B24D-F0333C1A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42F-43E1-481E-BC20-19D30BF9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BC8-67FB-47E6-8D68-4CDFC86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735-E158-4779-A91A-B0440A0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1D4-CA5D-4223-A43F-971E15D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C794-4B9B-434B-A58A-BE0A279E4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3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ich stands to get a branch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Grow just an inch more!” Mom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Rich Gets Bi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rry and the Monarch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019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on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astonishing, it amazes and surprises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tonis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18132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continue to do something, you keep doing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530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ubt something, you do not believe it is tru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ub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a firefly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it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irefly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irefly likes t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67120" y="0"/>
            <a:ext cx="1676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sentences with Days and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first, next, and l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Sequenc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,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agraph ch /ch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ch/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8098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ch/ sound at the beginning, put your thumb up say /ch/.  When I say a word that does not have /c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ch/ c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9907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chi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chi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inc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uc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2-01T05:11:50Z</dcterms:modified>
  <cp:revision>90</cp:revision>
  <dc:subject/>
  <dc:title>Slide 1</dc:title>
</cp:coreProperties>
</file>