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FAD7-9BEA-419C-AB42-0B765D2FE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96DF-295A-4950-8168-C2C7108C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FC35-DEBC-482F-B802-B54D2F23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1982-7CDA-4487-8CA3-DBA218A0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2EC4-B062-4BEA-9BF0-88AC2FC7C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8066-A7D4-4FD4-9C55-19447519D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CE9D-CBE7-421F-BF01-4590545E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7424-0C8F-4034-8A81-5AD35557A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D4DE-55D9-4D4F-A139-B4CCC839E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224A-9C27-4C95-8A25-7EF9B8354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B248-0E66-4B02-904C-9973341DB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2D76-70E7-41DD-AB10-8ECF3C2F1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804D-F7F6-4264-86F9-107A5AB24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EB65-4CED-4E05-B251-2BCC86A5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0E99-368C-4F06-B03C-8EAFAB38E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7265-8913-4543-952A-3953AC45B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D4A3-8D35-4AB3-A8ED-B6AA240CD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3F9B-B552-4E9A-853C-22E48FDFB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6628-D63D-4A44-A9E9-742D6CC83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4BC6-229B-4AA1-9DC3-F25695FE6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550E-3E6A-41DF-B5B2-0B303EC2C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AAA7-09D5-4B79-B581-1E6265B32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75B-BFC5-43E4-925C-879D049E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CB28-DB97-4F44-94DF-BDF4BB4AD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D6B-3E9E-4EF6-B42B-EB9647DF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C5E-AB10-445C-A450-C7058820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C35-6DEB-48F7-B805-8AD8FDE8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A40-7743-430D-8137-53BD0F4E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6A7-387B-4E2E-A7E7-4D33CD5D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D0F-B40C-4CA3-9BD0-3C26F789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84B-02FB-49F1-89D9-AEE85840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893-44E7-4BFC-A9C0-CC55910F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FA4-491D-4BC5-B6E4-EDA1ED55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7C2-2A57-4385-99FD-1BA010D9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0D1-D84A-4E24-8CE1-44C42070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38C-C901-4FDD-84D8-1A46AA1D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4CB-95F5-4F50-9F6C-B8E8956F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3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038480" y="914400"/>
            <a:ext cx="198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 by sequ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Read “A Butterfly Grow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e thinking about what the sequence of the butterfly lif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 by sequ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on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astonishing, it amazes and surprises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tonish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MPj04140390000[1]"/>
          <p:cNvPicPr/>
          <p:nvPr/>
        </p:nvPicPr>
        <p:blipFill>
          <a:blip r:embed="rId1"/>
          <a:stretch/>
        </p:blipFill>
        <p:spPr>
          <a:xfrm>
            <a:off x="1143000" y="1371600"/>
            <a:ext cx="318132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tin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continue to do something, you keep doing i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MPj04332050000[1]"/>
          <p:cNvPicPr/>
          <p:nvPr/>
        </p:nvPicPr>
        <p:blipFill>
          <a:blip r:embed="rId1"/>
          <a:stretch/>
        </p:blipFill>
        <p:spPr>
          <a:xfrm>
            <a:off x="533520" y="2597040"/>
            <a:ext cx="4530600" cy="298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ubt something, you do not believe it is tru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ub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Mj02827480000[1]"/>
          <p:cNvPicPr/>
          <p:nvPr/>
        </p:nvPicPr>
        <p:blipFill>
          <a:blip r:embed="rId1"/>
          <a:stretch/>
        </p:blipFill>
        <p:spPr>
          <a:xfrm>
            <a:off x="53352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67120" y="0"/>
            <a:ext cx="16765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Days and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7" descr="MPj03096360000[1]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4187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9"/>
          <p:cNvSpPr/>
          <p:nvPr/>
        </p:nvSpPr>
        <p:spPr>
          <a:xfrm>
            <a:off x="380880" y="510552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onth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8"/>
          <p:cNvSpPr/>
          <p:nvPr/>
        </p:nvSpPr>
        <p:spPr>
          <a:xfrm>
            <a:off x="762120" y="685800"/>
            <a:ext cx="7696080" cy="556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sentences with Days and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6094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unday, I always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day is a good day to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orning means it is time for __________ 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mas always comes in the month of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an inchworm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does it mo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n inchworm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t moves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first, next, and l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7696080" y="0"/>
            <a:ext cx="1447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2" descr="la25"/>
          <p:cNvPicPr/>
          <p:nvPr/>
        </p:nvPicPr>
        <p:blipFill>
          <a:blip r:embed="rId1"/>
          <a:stretch/>
        </p:blipFill>
        <p:spPr>
          <a:xfrm>
            <a:off x="211140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 Sequenc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he Inchwor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380880" y="2133720"/>
            <a:ext cx="4210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458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ime to 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Comic Sans MS"/>
                <a:ea typeface="Aharoni"/>
              </a:rPr>
              <a:t>The Farmer in the D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Say “hat” without the /h/.  Say “hat” wit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he /h/. Hi-ho, the derrio.  Say “hat” with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he /h/.  (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609480" y="312408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er without the /ch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p without the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p without the /f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 without the /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4876920" y="2971800"/>
            <a:ext cx="350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ud without the /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ch without the /b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 without the /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 without the /f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8" descr="C:\Users\Janice\AppData\Local\Microsoft\Windows\Temporary Internet Files\Content.IE5\AETH7CGB\MCj04244600000[1].wmf"/>
          <p:cNvPicPr/>
          <p:nvPr/>
        </p:nvPicPr>
        <p:blipFill>
          <a:blip r:embed="rId1"/>
          <a:stretch/>
        </p:blipFill>
        <p:spPr>
          <a:xfrm>
            <a:off x="5029200" y="0"/>
            <a:ext cx="18288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35053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9625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819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914400" y="4572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omic Sans MS"/>
              </a:rPr>
              <a:t>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jurliss_lily_bloom.jpg"/>
          <p:cNvPicPr/>
          <p:nvPr/>
        </p:nvPicPr>
        <p:blipFill>
          <a:blip r:embed="rId1"/>
          <a:stretch/>
        </p:blipFill>
        <p:spPr>
          <a:xfrm>
            <a:off x="3816360" y="380880"/>
            <a:ext cx="5327640" cy="4907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80880" y="11430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When you read a story, look for the sequence.  The sequence is what happens </a:t>
            </a:r>
            <a:r>
              <a:rPr b="0" i="1" lang="en-US" sz="3600" spc="-1" strike="noStrike">
                <a:solidFill>
                  <a:srgbClr val="6b6bcf"/>
                </a:solidFill>
                <a:latin typeface="Comic Sans MS"/>
              </a:rPr>
              <a:t>first</a:t>
            </a: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, </a:t>
            </a:r>
            <a:r>
              <a:rPr b="0" i="1" lang="en-US" sz="3600" spc="-1" strike="noStrike">
                <a:solidFill>
                  <a:srgbClr val="6b6bcf"/>
                </a:solidFill>
                <a:latin typeface="Comic Sans MS"/>
              </a:rPr>
              <a:t>next</a:t>
            </a: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, and </a:t>
            </a:r>
            <a:r>
              <a:rPr b="0" i="1" lang="en-US" sz="3600" spc="-1" strike="noStrike">
                <a:solidFill>
                  <a:srgbClr val="6b6bcf"/>
                </a:solidFill>
                <a:latin typeface="Comic Sans MS"/>
              </a:rPr>
              <a:t>last</a:t>
            </a: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  in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6019920" y="617220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identify and describe a sequence of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2-02T04:57:50Z</dcterms:modified>
  <cp:revision>111</cp:revision>
  <dc:subject/>
  <dc:title>Slide 1</dc:title>
</cp:coreProperties>
</file>