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DDDD-548F-4E48-A0C5-C62F8A338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AD20-2238-4D1B-B355-06B551394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23C3-B504-4225-B26D-1B9EE8D9F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1F14-7BEE-4FF6-91B6-01A82B24A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328D-9DFD-4E7D-A342-C98B15EBF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442E-B42D-4AB9-8BF1-A058E862A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1901-7782-4032-B129-8505A130C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7E61-90B8-4903-BB2A-205C1F7B4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2317-8E09-45A4-8B71-BBD645DEF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EFBF-7288-4CC0-A85D-0C445832F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7B29-8216-4ACE-A6BC-21332D58F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BB8C-B536-403A-83F4-4A82332BD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BA8B-A3D7-49C4-A455-99B18006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BFA4-04B0-41FC-BE71-3F311809D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C014-D65A-4B9B-A34D-B23C43A5F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239C-5AB7-43E3-910A-A8E7DF6DA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BF78-ADDF-45DF-9E86-EF340EBDA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B428-E97E-4D2F-ACEB-9DBD4584B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C57C-517C-4167-9FA6-21D22B858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9A8C-C481-4081-9B5D-F0BF46F02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C869-0EA5-4BB2-A5AC-E55578EBE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3A8A-BCCD-4E59-976F-D3FB3ACA4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C1B4-ADE3-4170-949D-3199D03C7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7A9C-C29D-4511-9703-76A1F69C2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39B-3798-4097-A458-C7C84129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626-3CEB-4F4A-8C99-2C0B4C54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AE4-DA74-4AEF-93E0-E798AA39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4F4-A3DA-4644-86D5-3D54D6BE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813-5CB6-4AA7-95CB-6A190CF2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2C1-7707-4333-8D95-8625D51B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CDD-06D1-4A3D-A2E0-D14F52BA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609-4468-4614-8698-FA663678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B46-F929-4FC0-91AC-D0EF26F2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EDC-6EDD-4D06-BB6D-E4E2CC49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15C-82FB-436C-9856-C821B0F9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70B-0796-4478-A3B9-FE6D843A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EFFF-4A03-4B9A-A02C-DA2D4B863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3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038480" y="914400"/>
            <a:ext cx="198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g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qu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 by sequ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129528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37160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371600" y="35053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Read “A Butterfly Grow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be thinking about what the sequence of the butterfly lif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qu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 by sequ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29528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37160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371600" y="35053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on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something is astonishing, it amazes and surprises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stonish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MPj04140390000[1]"/>
          <p:cNvPicPr/>
          <p:nvPr/>
        </p:nvPicPr>
        <p:blipFill>
          <a:blip r:embed="rId1"/>
          <a:stretch/>
        </p:blipFill>
        <p:spPr>
          <a:xfrm>
            <a:off x="1143000" y="1371600"/>
            <a:ext cx="3181320" cy="4568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tinu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181480" y="1714680"/>
            <a:ext cx="37134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continue to do something, you keep doing i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MPj04332050000[1]"/>
          <p:cNvPicPr/>
          <p:nvPr/>
        </p:nvPicPr>
        <p:blipFill>
          <a:blip r:embed="rId1"/>
          <a:stretch/>
        </p:blipFill>
        <p:spPr>
          <a:xfrm>
            <a:off x="533520" y="2597040"/>
            <a:ext cx="4530600" cy="298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doubt something, you do not believe it is tru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oub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Mj02827480000[1]"/>
          <p:cNvPicPr/>
          <p:nvPr/>
        </p:nvPicPr>
        <p:blipFill>
          <a:blip r:embed="rId1"/>
          <a:stretch/>
        </p:blipFill>
        <p:spPr>
          <a:xfrm>
            <a:off x="533520" y="17524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67120" y="0"/>
            <a:ext cx="16765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names of days of the weeks and months of the y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mes of Days and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7" descr="MPj03096360000[1]"/>
          <p:cNvPicPr/>
          <p:nvPr/>
        </p:nvPicPr>
        <p:blipFill>
          <a:blip r:embed="rId1"/>
          <a:stretch/>
        </p:blipFill>
        <p:spPr>
          <a:xfrm>
            <a:off x="838080" y="838080"/>
            <a:ext cx="5867640" cy="41878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9"/>
          <p:cNvSpPr/>
          <p:nvPr/>
        </p:nvSpPr>
        <p:spPr>
          <a:xfrm>
            <a:off x="380880" y="5105520"/>
            <a:ext cx="7620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onth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8"/>
          <p:cNvSpPr/>
          <p:nvPr/>
        </p:nvSpPr>
        <p:spPr>
          <a:xfrm>
            <a:off x="762120" y="685800"/>
            <a:ext cx="7696080" cy="556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sentences with Days and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6094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unday, I always 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day is a good day to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morning means it is time for __________ 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mas always comes in the month of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does an inchworm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does it mo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n inchworm i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t moves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Sequence Sto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tells everything in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uses words such as first, next, and la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an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7696080" y="0"/>
            <a:ext cx="1447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names of days of the weeks and months of the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2" descr="la25"/>
          <p:cNvPicPr/>
          <p:nvPr/>
        </p:nvPicPr>
        <p:blipFill>
          <a:blip r:embed="rId1"/>
          <a:stretch/>
        </p:blipFill>
        <p:spPr>
          <a:xfrm>
            <a:off x="2111400" y="0"/>
            <a:ext cx="527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a Sequenc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sequence chart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istics of concrete poe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The Inchwor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C:\Users\Janice\AppData\Local\Microsoft\Windows\Temporary Internet Files\Content.IE5\AETH7CGB\MCj04345750000[1].wmf"/>
          <p:cNvPicPr/>
          <p:nvPr/>
        </p:nvPicPr>
        <p:blipFill>
          <a:blip r:embed="rId1"/>
          <a:stretch/>
        </p:blipFill>
        <p:spPr>
          <a:xfrm>
            <a:off x="380880" y="2133720"/>
            <a:ext cx="4210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lete initial phonemes from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MPj04395230000[1]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lete initial phonemes from word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4582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Time to S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b6bcf"/>
                </a:solidFill>
                <a:latin typeface="Comic Sans MS"/>
                <a:ea typeface="Aharoni"/>
              </a:rPr>
              <a:t>The Farmer in the D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Say “hat” without the /h/.  Say “hat” wit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the /h/. Hi-ho, the derrio.  Say “hat” with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the /h/.  (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609480" y="312408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er without the /ch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p without the /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ap without the /f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 without the /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4876920" y="2971800"/>
            <a:ext cx="3504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oud without the /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ch without the /b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 without the /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 without the /f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8" descr="C:\Users\Janice\AppData\Local\Microsoft\Windows\Temporary Internet Files\Content.IE5\AETH7CGB\MCj04244600000[1].wmf"/>
          <p:cNvPicPr/>
          <p:nvPr/>
        </p:nvPicPr>
        <p:blipFill>
          <a:blip r:embed="rId1"/>
          <a:stretch/>
        </p:blipFill>
        <p:spPr>
          <a:xfrm>
            <a:off x="5029200" y="0"/>
            <a:ext cx="18288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8862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35053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32767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4267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37339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42670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96252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862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32767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819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914400" y="4572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omic Sans MS"/>
              </a:rPr>
              <a:t>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jurliss_lily_bloom.jpg"/>
          <p:cNvPicPr/>
          <p:nvPr/>
        </p:nvPicPr>
        <p:blipFill>
          <a:blip r:embed="rId1"/>
          <a:stretch/>
        </p:blipFill>
        <p:spPr>
          <a:xfrm>
            <a:off x="3816360" y="380880"/>
            <a:ext cx="5327640" cy="490716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80880" y="114300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When you read a story, look for the sequence.  The sequence is what happens </a:t>
            </a:r>
            <a:r>
              <a:rPr b="0" i="1" lang="en-US" sz="3600" spc="-1" strike="noStrike">
                <a:solidFill>
                  <a:srgbClr val="6b6bcf"/>
                </a:solidFill>
                <a:latin typeface="Comic Sans MS"/>
              </a:rPr>
              <a:t>first</a:t>
            </a: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, </a:t>
            </a:r>
            <a:r>
              <a:rPr b="0" i="1" lang="en-US" sz="3600" spc="-1" strike="noStrike">
                <a:solidFill>
                  <a:srgbClr val="6b6bcf"/>
                </a:solidFill>
                <a:latin typeface="Comic Sans MS"/>
              </a:rPr>
              <a:t>next</a:t>
            </a: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, and </a:t>
            </a:r>
            <a:r>
              <a:rPr b="0" i="1" lang="en-US" sz="3600" spc="-1" strike="noStrike">
                <a:solidFill>
                  <a:srgbClr val="6b6bcf"/>
                </a:solidFill>
                <a:latin typeface="Comic Sans MS"/>
              </a:rPr>
              <a:t>last</a:t>
            </a: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  in the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6019920" y="617220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identify and describe a sequence of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2-02T04:57:50Z</dcterms:modified>
  <cp:revision>111</cp:revision>
  <dc:subject/>
  <dc:title>Slide 1</dc:title>
</cp:coreProperties>
</file>