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0BD-42F5-47A7-90DA-DCA716D1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088-5C0F-46D3-AB14-7899D508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1FD-FA77-4B4B-B2E6-5E5FC82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CE2-3CAA-44A0-BC2E-3073F26E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126-2F4F-4615-9305-554699E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8F9-4FBB-421B-B9E5-ED94A20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221-5E98-4F7A-A27A-731978E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B1A-66EC-47A5-9F3E-531787D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70A-2823-4361-B560-78391A5F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6DC-D261-498B-ABF4-964FBF3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4BC-1DBC-4BD9-844B-04A2C757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197-EFEA-499B-A1FB-EA4DE11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21C-EDC1-40C5-AB07-8E997230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ember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3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entury Gothic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Where would you like to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entury Gothic"/>
              </a:rPr>
              <a:t>I eat this plant for lunch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286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 To read with correct intonation in a manner that sounds like natural spee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Hurry and the Monarch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705720" y="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Read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Caterpill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coon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12" name="butterfly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caterpillar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examin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118" name="examine%202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evour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123" name="devour1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467480" y="0"/>
            <a:ext cx="1676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72200" y="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Times New Roman"/>
              </a:rPr>
              <a:t>Grammar- Names of Days and Mont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have a class birthday party on the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riday of each mon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n the party on thurs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st september, we had a party for Al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m and Kim had a birthday part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cto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yed fun games in novem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*Find the words that need to be capit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nchworms move slowly. When do you move slowly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ove slowly when I 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rite about School: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about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did yesterday at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Use words First, Next, and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Write it in order of when it happe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ell beginning, middle, and end of your day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00400" y="12193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048120" y="24382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2819520" y="5562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43828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971800" y="121932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26708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7432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038480" y="3657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438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Digraphs /ch/ ch, 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itch the chimp was in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hat’s for lunch?” Mitch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Rich said, “We have mush, chips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chick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e’ll eat fish and shrimp, too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unch, crunch! Chomp, Chom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Yum!” said Mitch. “Thanks, Ric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2:09:41Z</dcterms:created>
  <dc:creator>Federated Group</dc:creator>
  <dc:description/>
  <dc:language>en-US</dc:language>
  <cp:lastModifiedBy>Federated Group</cp:lastModifiedBy>
  <dcterms:modified xsi:type="dcterms:W3CDTF">2008-12-03T03:11:43Z</dcterms:modified>
  <cp:revision>1</cp:revision>
  <dc:subject/>
  <dc:title>PowerPoint Presentation</dc:title>
</cp:coreProperties>
</file>