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986-9CC7-41B4-97AF-F842E75A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FB9-E040-4F11-8C0B-FB50F9F6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BC0-D15F-4E6E-91DC-7C00AE7A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745-A74A-4625-9D85-4726C049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884-64BF-4B9F-A06E-804CE47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13F-AE64-4496-80EB-877BD0B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5D6-14A0-4C43-8F15-986ED81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E95-33E1-4F9B-8143-D153C894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6BF-1B51-44AA-80E7-17476B2B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A0D-8AEC-4AE7-9F98-983B290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094-112C-47F2-8FB2-C4232120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4D1-1784-41D8-98B0-060A971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6020-BD9B-45EB-B522-8941E8407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ember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3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entury Gothic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Where would you like to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entury Gothic"/>
              </a:rPr>
              <a:t>I eat this plant for lunch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286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 To read with correct intonation in a manner that sounds like natural spee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Hurry and the Monarch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705720" y="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Read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Caterpill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coon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12" name="butterfly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caterpillar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examin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118" name="examine%202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evour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123" name="devour1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467480" y="0"/>
            <a:ext cx="1676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72200" y="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Times New Roman"/>
              </a:rPr>
              <a:t>Grammar- Names of Days and Mont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have a class birthday party on the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riday of each mon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n the party on thurs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st september, we had a party for Al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m and Kim had a birthday part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cto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yed fun games in novem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*Find the words that need to be capit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nchworms move slowly. When do you move slowly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ove slowly when I 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rite about School: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about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did yesterday at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Use words First, Next, and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Write it in order of when it happe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ell beginning, middle, and end of your day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00400" y="12193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048120" y="24382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2819520" y="5562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43828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971800" y="121932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26708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7432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038480" y="3657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438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Digraphs /ch/ ch, 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itch the chimp was in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hat’s for lunch?” Mitch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Rich said, “We have mush, chips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chick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e’ll eat fish and shrimp, too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unch, crunch! Chomp, Chom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Yum!” said Mitch. “Thanks, Ric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2:09:41Z</dcterms:created>
  <dc:creator>Federated Group</dc:creator>
  <dc:description/>
  <dc:language>en-US</dc:language>
  <cp:lastModifiedBy>Federated Group</cp:lastModifiedBy>
  <dcterms:modified xsi:type="dcterms:W3CDTF">2008-12-03T03:11:43Z</dcterms:modified>
  <cp:revision>1</cp:revision>
  <dc:subject/>
  <dc:title>PowerPoint Presentation</dc:title>
</cp:coreProperties>
</file>