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E709-B89F-402C-955D-F0E174FA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8FE0-AB8E-4749-A1E6-BABFB477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18E4-C4AF-4784-9701-968839184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459-3A24-4F68-BA13-C57EC2C3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FA7-3D26-426B-A906-A445F623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6C5-A6B8-4A09-B017-537AA6E1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789-8B32-4807-9A26-CFD95676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911D-1264-43A3-B963-BC991546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5F5F-16A6-47C8-BC58-997DEDFC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5C0C-3D35-4A9C-82E0-9FEB62B0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3879-FC85-49C0-8D7D-31F8CDA9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867E-B78A-4434-B621-38275A4B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E143-BF17-41C0-A428-6B308A53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E9B4-9452-4866-B06B-91D90F92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547-B19F-4B0F-AAE6-F9147EB0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0EAC-DA34-490B-846E-D7EFF9E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6A1B-E6A4-410E-8E43-A8644166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C0D7-6841-47CF-8B21-0B4DBB6B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7B9C-A70B-47C7-9E45-44DD40A6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7625-B728-441D-B9E0-7090B5B9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151-48AA-4CD6-8903-321FA749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C44-392F-425D-9D6D-6805FA84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BD3-64D3-45E4-9AC6-2D83B4C0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9DA-CA91-4A49-A463-E7AF5B9A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87D-9806-4E4E-B51D-40B4D288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AE3-45E6-4E08-9210-534B1516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D55-61D9-4ACE-9EF3-AAFA7C3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9427-E942-4A9E-A5E3-C9C11156EC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98A3-45F0-4545-821D-30C92DA337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533520"/>
            <a:ext cx="86104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Thursday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December 4, 200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Lesson 13 Day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0"/>
            <a:ext cx="73911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x = f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rush = bru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unch = bu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tch =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us = b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ress = 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uzz = buz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lass =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When we make a word plural – more than one – we add an es instead of an s to a word that ends with x, s, ss, ch, tch, sh, 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523880" y="1397160"/>
          <a:ext cx="6324840" cy="4619520"/>
        </p:xfrm>
        <a:graphic>
          <a:graphicData uri="http://schemas.openxmlformats.org/drawingml/2006/table">
            <a:tbl>
              <a:tblPr/>
              <a:tblGrid>
                <a:gridCol w="2133720"/>
                <a:gridCol w="2057400"/>
                <a:gridCol w="2133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703dff"/>
                          </a:solidFill>
                          <a:uFillTx/>
                          <a:latin typeface="Comic Sans MS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po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ru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fi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</a:rPr>
                        <a:t>+ Ending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ef66"/>
                          </a:solidFill>
                          <a:uFillTx/>
                          <a:latin typeface="Comic Sans MS"/>
                        </a:rPr>
                        <a:t>New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to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por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ru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fizz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304920"/>
            <a:ext cx="8153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Fr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itc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wi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! Rich swing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ss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Fr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ratc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her c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Then s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oss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a fast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wi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! The pitch is a goo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Rich swing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ma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the ball with his 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Fa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etc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the ball from the po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Rich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a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entury Gothic"/>
              </a:rPr>
              <a:t>Spelling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in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at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w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5029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To use /ch/ch, tch, /sh/ sh, and other known letter-sounds to spell and write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pell and write known high frequency w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3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3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3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3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3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3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3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3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3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3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3520" y="990720"/>
            <a:ext cx="7543800" cy="40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quence of a story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order in whi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ngs happen in 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First, Next, Last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identify the sequence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4920"/>
            <a:ext cx="7467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’s read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Fireflies, Fireflies, Light My Wa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nd see if we have an order in which the author meets the animals.  Why do you think the author meets the animals in this or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752480" y="152280"/>
            <a:ext cx="5715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transform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6002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transform something, you totally change i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2438640" cy="3251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867280" y="4343400"/>
            <a:ext cx="2514600" cy="1790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565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1522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 will name some things that might transform themselves.  If you think this could happen raise your hand.  If not 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w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stack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caterp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ttentively and respond appropriately to oral communication; to use sensory words in a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am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1523880"/>
            <a:ext cx="358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examine something, you look at it closel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395440" cy="358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23115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I am going to name some things.  If you think you could examine the thing then point to your eyes.  If not do n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olorful butter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nice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beautiful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large caterp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ou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600200"/>
            <a:ext cx="335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devour something, you eat it all up very quickl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22560" cy="2019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228600"/>
            <a:ext cx="746748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am going to name some food.  If you would want to devour the food then point to your mouth.  If not then do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uff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i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t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o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ocolate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roc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andw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: To use knowledge of basic rules of capit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7" descr="MPj03096360000[1]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3505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81080" y="4572000"/>
            <a:ext cx="4953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day of the week is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How do we wri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month of the year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How do we wri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oday is 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day I like best is 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is month is ____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month I like best is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44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0"/>
            <a:ext cx="853416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first day of the school week is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last day of the school week is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 did not go to school on saturday or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first month of the year is jan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last month of the year is dec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shortest month is febr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2193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irst, next,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las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304920"/>
            <a:ext cx="83818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Pretend you are holding a caterpillar or a butterfly in your ha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ow does it look and fee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304920"/>
            <a:ext cx="84582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A caterpillar is _______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A butterfly is _______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89154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uzzy Wuzzy Creepy Crawl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zzy wuzzy, creepy cra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terpillar fu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 will be a butterf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the days are su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nging, flinging, dancing, spr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tterfly so ye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 were once a caterpil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ggly, wiggly fe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609588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identify the rhythm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0"/>
            <a:ext cx="7162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685800"/>
            <a:ext cx="76201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14300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ad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: To delete initial phonemes from word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lete initial phonemes from word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0" y="228600"/>
            <a:ext cx="8458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ime to Sing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Comic Sans MS"/>
                <a:ea typeface="Aharoni"/>
              </a:rPr>
              <a:t>The Farmer in the D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  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Cast without /s/ is cat. Cast without  /s/ is cat. Hi-ho, the derrio. Cast without /s/ is ca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609480" y="2514600"/>
            <a:ext cx="3505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t without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t without /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without /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ts without /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4876920" y="2590920"/>
            <a:ext cx="350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sk without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k without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 without /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ks without /r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8" descr="C:\Users\Janice\AppData\Local\Microsoft\Windows\Temporary Internet Files\Content.IE5\AETH7CGB\MCj04244600000[1].wmf"/>
          <p:cNvPicPr/>
          <p:nvPr/>
        </p:nvPicPr>
        <p:blipFill>
          <a:blip r:embed="rId1"/>
          <a:stretch/>
        </p:blipFill>
        <p:spPr>
          <a:xfrm>
            <a:off x="5029200" y="0"/>
            <a:ext cx="18288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04920" y="1143000"/>
            <a:ext cx="80769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see w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ppens when w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d es to the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 a wor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2860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o read the inflectional form -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3:15:55Z</dcterms:created>
  <dc:creator>Valued Gateway Client</dc:creator>
  <dc:description/>
  <dc:language>en-US</dc:language>
  <cp:lastModifiedBy>Valued Gateway Client</cp:lastModifiedBy>
  <dcterms:modified xsi:type="dcterms:W3CDTF">2008-12-04T03:29:12Z</dcterms:modified>
  <cp:revision>3</cp:revision>
  <dc:subject/>
  <dc:title>Slide 1</dc:title>
</cp:coreProperties>
</file>