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1CE4-CA31-4849-9BF7-251BEA8EC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E81A-DB31-433E-A042-E3B6C89DB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98B0-FE77-46F7-B593-29DD4B639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F38-71F6-46AC-B975-6C77E32F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65EC-972E-4075-B25A-70D93722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633-C9CC-4112-B039-D909D32A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DAB-389C-4CE9-902B-69B04788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A83B-40CA-4E9B-A4EB-FEB96359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C5C7-27E0-4B44-9B80-4C1AC633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531E-FF9D-4E9E-85A1-E78630FE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D12F-EEA6-472D-A564-246A8CB2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B885-67BE-4555-BA8C-ED10F72C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3F92-98BF-44A0-A48A-73B530A1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D122-A3FB-449E-B31F-8E1BD1FC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60D-BC0D-4EF6-A4EA-6FADCCB4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8B6B-E38F-4600-BAC5-FC10E24C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38A9-DAA0-4A37-88D9-44FB94F4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823C-25E6-4009-89E3-ED611C7D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83E6-41D8-42B3-8C68-E8BA66EF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7A5F-8437-48D9-9167-4B5B8535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A835-DF38-4C20-AF12-EDE4AE71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0379-2CFA-4AFF-ABA9-866E4B31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F93-31E6-42F3-98EB-CCEFBA89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F86-4655-45D4-B6BA-21302C69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F17-B570-4A05-AF89-26228022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98AE-2F9D-434D-A4B8-97EAB16D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FA67-815B-481F-A08E-105C7830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6E9A-7840-4103-B75B-D49A1EC84F7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47A1-4A9F-49EC-999E-322AA7CA60D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533520"/>
            <a:ext cx="86104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Thursday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December 4, 200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Lesson 13 Day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0"/>
            <a:ext cx="73911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ox = f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rush = bru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unch = bu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tch =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us = b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ress = 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uzz = buz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lass =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853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When we make a word plural – more than one – we add an es instead of an s to a word that ends with x, s, ss, ch, tch, sh, z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523880" y="1397160"/>
          <a:ext cx="6324840" cy="4619520"/>
        </p:xfrm>
        <a:graphic>
          <a:graphicData uri="http://schemas.openxmlformats.org/drawingml/2006/table">
            <a:tbl>
              <a:tblPr/>
              <a:tblGrid>
                <a:gridCol w="2133720"/>
                <a:gridCol w="2057400"/>
                <a:gridCol w="21337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703dff"/>
                          </a:solidFill>
                          <a:uFillTx/>
                          <a:latin typeface="Comic Sans MS"/>
                        </a:rPr>
                        <a:t>Root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to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po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m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ru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fiz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Comic Sans MS"/>
                        </a:rPr>
                        <a:t>+ Ending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ef66"/>
                          </a:solidFill>
                          <a:uFillTx/>
                          <a:latin typeface="Comic Sans MS"/>
                        </a:rPr>
                        <a:t>New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to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por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m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rus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fizz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b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304920"/>
            <a:ext cx="81532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Fr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itch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 the 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I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wish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! Rich swing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iss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Fr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cratch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 her ch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Then s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oss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 a fast 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I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wish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! The pitch is a good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Rich swing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mash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 the ball with his b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Fang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etch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 the ball from the po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Rich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ash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Century Gothic"/>
              </a:rPr>
              <a:t>Spelling Wor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hi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h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in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su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at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mat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entury Gothic"/>
              </a:rPr>
              <a:t>w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entury Gothic"/>
              </a:rPr>
              <a:t>sho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00cc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00cc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5029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: To use /ch/ch, tch, /sh/ sh, and other known letter-sounds to spell and write 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pell and write known high frequency wor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3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3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3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3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3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3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3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3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3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3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533520" y="990720"/>
            <a:ext cx="7543800" cy="40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equence of a story 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order in whic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ings happen in th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First, Next, Last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286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identify the sequence of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304920"/>
            <a:ext cx="7467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t’s read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Fireflies, Fireflies, Light My Way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nd see if we have an order in which the author meets the animals.  Why do you think the author meets the animals in this ord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752480" y="152280"/>
            <a:ext cx="57150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457200" y="8380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v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transform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16002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f you transform something, you totally change i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124080" y="3200400"/>
            <a:ext cx="2438640" cy="3251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867280" y="4343400"/>
            <a:ext cx="2514600" cy="1790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04920" y="4267080"/>
            <a:ext cx="25653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152280"/>
            <a:ext cx="74674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 will name some things that might transform themselves.  If you think this could happen raise your hand.  If not 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 w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 stack of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 f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 caterpil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9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920" y="1219320"/>
            <a:ext cx="79246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28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listen attentively and respond appropriately to oral communication; to use sensory words in a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amin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1523880"/>
            <a:ext cx="3581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f you examine something, you look at it closel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2395440" cy="3581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553080" y="1981080"/>
            <a:ext cx="23115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0"/>
            <a:ext cx="76201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I am going to name some things.  If you think you could examine the thing then point to your eyes.  If not do no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colorful butter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nice sm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beautiful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large caterpil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evou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1600200"/>
            <a:ext cx="3352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f you devour something, you eat it all up very quickl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022560" cy="2019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676520" y="3657600"/>
            <a:ext cx="36320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4920" y="228600"/>
            <a:ext cx="746748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 am going to name some food.  If you would want to devour the food then point to your mouth.  If not then do n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uff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i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t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o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hocolate c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rocc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andw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8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380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Objective: To use knowledge of basic rules of capit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7" descr="MPj03096360000[1]"/>
          <p:cNvPicPr/>
          <p:nvPr/>
        </p:nvPicPr>
        <p:blipFill>
          <a:blip r:embed="rId1"/>
          <a:stretch/>
        </p:blipFill>
        <p:spPr>
          <a:xfrm>
            <a:off x="838080" y="838080"/>
            <a:ext cx="5867640" cy="3505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981080" y="4572000"/>
            <a:ext cx="4953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What day of the week is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How do we writ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What month of the year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How do we writ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Today is 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The day I like best is 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This month is ____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The month I like best is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04920" y="0"/>
            <a:ext cx="853416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e first day of the school week is 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e last day of the school week is 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 did not go to school on saturday or su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e first month of the year is janu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e last month of the year is dec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e shortest month is febru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0" y="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Sequence Sto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121932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tells everything in or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uses words such as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first, next,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last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beginning, middle, and an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understand sequenc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8" descr="sequence chart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304920"/>
            <a:ext cx="838188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Pretend you are holding a caterpillar or a butterfly in your han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How does it look and feel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304920"/>
            <a:ext cx="84582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A caterpillar is __________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A butterfly is __________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89154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uzzy Wuzzy Creepy Crawl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uzzy wuzzy, creepy craw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terpillar fun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ou will be a butterf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en the days are sun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inging, flinging, dancing, spri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utterfly so yel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ou were once a caterpill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iggly, wiggly fel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609588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identify the rhythm of a po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0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3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0"/>
            <a:ext cx="7162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685800"/>
            <a:ext cx="76201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143000"/>
            <a:ext cx="304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read h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8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bjective: To delete initial phonemes from words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13" descr="MPj04395230000[1]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delete initial phonemes from word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0" y="228600"/>
            <a:ext cx="84582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  <a:ea typeface="Aharoni"/>
              </a:rPr>
              <a:t>Time to Sing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b6bcf"/>
                </a:solidFill>
                <a:latin typeface="Comic Sans MS"/>
                <a:ea typeface="Aharoni"/>
              </a:rPr>
              <a:t>The Farmer in the D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omic Sans MS"/>
                <a:ea typeface="Aharoni"/>
              </a:rPr>
              <a:t>   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  <a:ea typeface="Aharoni"/>
              </a:rPr>
              <a:t>Cast without /s/ is cat. Cast without  /s/ is cat. Hi-ho, the derrio. Cast without /s/ is ca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609480" y="2514600"/>
            <a:ext cx="3505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t without /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nt without /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nt without /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ts without /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4876920" y="2590920"/>
            <a:ext cx="3504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sk without /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k without /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 without /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cks without /r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8" descr="C:\Users\Janice\AppData\Local\Microsoft\Windows\Temporary Internet Files\Content.IE5\AETH7CGB\MCj04244600000[1].wmf"/>
          <p:cNvPicPr/>
          <p:nvPr/>
        </p:nvPicPr>
        <p:blipFill>
          <a:blip r:embed="rId1"/>
          <a:stretch/>
        </p:blipFill>
        <p:spPr>
          <a:xfrm>
            <a:off x="5029200" y="0"/>
            <a:ext cx="18288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04920" y="1143000"/>
            <a:ext cx="80769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t's see what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appens when w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dd es to the e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f a wor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228600"/>
            <a:ext cx="7391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recognize root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o read the inflectional form -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3:15:55Z</dcterms:created>
  <dc:creator>Valued Gateway Client</dc:creator>
  <dc:description/>
  <dc:language>en-US</dc:language>
  <cp:lastModifiedBy>Valued Gateway Client</cp:lastModifiedBy>
  <dcterms:modified xsi:type="dcterms:W3CDTF">2008-12-04T03:29:12Z</dcterms:modified>
  <cp:revision>3</cp:revision>
  <dc:subject/>
  <dc:title>Slide 1</dc:title>
</cp:coreProperties>
</file>