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C8C0-4740-49DB-9254-465714A0E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FC08-31FE-4C0F-9CF9-F1B651300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35ED-21CB-42CB-A558-747952E93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DC1A-45B9-42BF-A49D-E1A9FB2F4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929C-B362-43E2-81ED-7E0A53257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7351-7784-41F1-A8D1-504F8BEB4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E26C-0855-4E43-9986-05A263C73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22C9-7903-401E-9C61-41284EBCE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52D2-ECBE-44AE-B127-A7BE79EA9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DF24-3BC3-431A-9984-BA6A0A16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0B46-8397-428F-9192-433A78C0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5E54-1ABF-420D-B254-8F4DBC57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466AF-D919-43E5-848A-66BF4928A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Frid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esson 13, Day 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ould you rather be a caterpillar or a butterfly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would rather be a _______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because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238880" y="-360"/>
            <a:ext cx="1905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rhyming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43400" y="457200"/>
            <a:ext cx="4800600" cy="69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“Fuzzy, Wuzzy, Creepy, Crawly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44197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tch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w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8624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lete initial phonemes from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5181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le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181480" y="1066680"/>
            <a:ext cx="363240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781680" y="0"/>
            <a:ext cx="23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and generate the  sound of es /s/.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28600"/>
            <a:ext cx="845820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Inflection -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066680"/>
          <a:ext cx="8229600" cy="54309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 Wor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Ending =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Wor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x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s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c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c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s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zz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x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ss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ch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ch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sh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zze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s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ff"/>
                </a:solidFill>
                <a:latin typeface="Century Gothic"/>
              </a:rPr>
              <a:t>Spelling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66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Century Gothic"/>
              </a:rPr>
              <a:t>c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66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Century Gothic"/>
              </a:rPr>
              <a:t>ch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66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Century Gothic"/>
              </a:rPr>
              <a:t>in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66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Century Gothic"/>
              </a:rPr>
              <a:t>su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66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Century Gothic"/>
              </a:rPr>
              <a:t>ca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66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Century Gothic"/>
              </a:rPr>
              <a:t>ma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ff0066"/>
              </a:buClr>
              <a:buFont typeface="Century Gothic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Century Gothic"/>
              </a:rPr>
              <a:t>wi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ff0066"/>
              </a:buClr>
              <a:buFont typeface="Century Gothic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Century Gothic"/>
              </a:rPr>
              <a:t>sh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9900cc"/>
              </a:buClr>
              <a:buFont typeface="Century Gothic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entury Gothic"/>
              </a:rPr>
              <a:t>s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9900cc"/>
              </a:buClr>
              <a:buFont typeface="Century Gothic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entury Gothic"/>
              </a:rPr>
              <a:t>w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0"/>
            <a:ext cx="502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Objective: To use /ch/ch, tch, /sh/ sh, and other known letter-sounds to decode w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3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3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3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3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3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3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3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3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3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3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4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4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1" dur="5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0" fill="hold"/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0" fill="hold"/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9" dur="500"/>
                                        <p:tgtEl>
                                          <p:spTgt spid="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 </cp:lastModifiedBy>
  <dcterms:modified xsi:type="dcterms:W3CDTF">2009-11-30T03:34:16Z</dcterms:modified>
  <cp:revision>94</cp:revision>
  <dc:subject/>
  <dc:title>Slide 1</dc:title>
</cp:coreProperties>
</file>