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627-CC50-466C-A763-3548C13C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523-A88F-4524-B53A-C5078096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250-EB9B-4616-8294-EFB947DF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8D3-95EF-419B-81CD-0AF7E914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784-BDD3-49E9-B9CD-9D456243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C15-0B81-4284-8CB5-A79B224A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5FF4-D29F-4B18-B1D6-304006C8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4EE-5314-464C-B600-4EB88C41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CB0-1392-4E14-8A1E-FD776CAF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1C5-27FA-4541-83D0-D70848A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91C-02BB-4926-8993-F0DB48F2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FAE-6DBA-4EE2-B39C-87515FBE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A246-D86F-46FE-8715-E9A8E2BA5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3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ould you rather be a caterpillar or a butterfl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rather be a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uzzy, Wuzzy, Creepy, Crawl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es /s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Inflection -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066680"/>
          <a:ext cx="8229600" cy="543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Ending =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x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s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ze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3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3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3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3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3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3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1-30T03:34:16Z</dcterms:modified>
  <cp:revision>94</cp:revision>
  <dc:subject/>
  <dc:title>Slide 1</dc:title>
</cp:coreProperties>
</file>