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gif" ContentType="image/gi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848B-0702-44F1-A3B5-F732AA99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BAD9-7E25-4DFA-8C18-AEF0A85F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295D-CF48-4720-AEDB-663CE608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EFB7-F650-4282-ABBB-4BFE0F935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5623-0CC4-417A-AC20-D229A118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190A-D884-41D0-8B7F-A68BC9C6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93BA-ADC0-40BA-A912-F9B82BA2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1EC8-A04B-4602-9EDA-91BABAC3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5CAF-9EE1-45E8-881A-9FE07177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C121-1A11-40C7-823B-8F6AD03E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F2D2-8ED5-4511-9BCB-75EFE77D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E94B-5841-4CF1-B0A4-9FAA0919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1CCB-F046-4E37-AD2D-57298A878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cember 8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14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Ann starts her long trip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It is dark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ay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l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Read “Ann’s Trip to the Star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5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5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0" dur="2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62720" y="3962520"/>
            <a:ext cx="609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72200" y="2057400"/>
            <a:ext cx="2362320" cy="3962520"/>
          </a:xfrm>
          <a:custGeom>
            <a:avLst/>
            <a:gdLst>
              <a:gd name="textAreaLeft" fmla="*/ 115200 w 2362320"/>
              <a:gd name="textAreaRight" fmla="*/ 2247120 w 2362320"/>
              <a:gd name="textAreaTop" fmla="*/ 115200 h 3962520"/>
              <a:gd name="textAreaBottom" fmla="*/ 3847320 h 3962520"/>
            </a:gdLst>
            <a:ahLst/>
            <a:rect l="textAreaLeft" t="textAreaTop" r="textAreaRight" b="textAreaBottom"/>
            <a:pathLst>
              <a:path w="21600" h="36229">
                <a:moveTo>
                  <a:pt x="3600" y="0"/>
                </a:moveTo>
                <a:arcTo wR="3600" hR="3600" stAng="16200000" swAng="-5400000"/>
                <a:lnTo>
                  <a:pt x="0" y="32629"/>
                </a:lnTo>
                <a:arcTo wR="3600" hR="3600" stAng="10800000" swAng="-5400000"/>
                <a:lnTo>
                  <a:pt x="18000" y="3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4038480"/>
            <a:ext cx="609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24480" y="2286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2057400"/>
            <a:ext cx="2362320" cy="3886200"/>
          </a:xfrm>
          <a:custGeom>
            <a:avLst/>
            <a:gdLst>
              <a:gd name="textAreaLeft" fmla="*/ 115200 w 2362320"/>
              <a:gd name="textAreaRight" fmla="*/ 2247120 w 2362320"/>
              <a:gd name="textAreaTop" fmla="*/ 115200 h 3886200"/>
              <a:gd name="textAreaBottom" fmla="*/ 3771000 h 3886200"/>
            </a:gdLst>
            <a:ahLst/>
            <a:rect l="textAreaLeft" t="textAreaTop" r="textAreaRight" b="textAreaBottom"/>
            <a:pathLst>
              <a:path w="21600" h="35532">
                <a:moveTo>
                  <a:pt x="3600" y="0"/>
                </a:moveTo>
                <a:arcTo wR="3600" hR="3600" stAng="16200000" swAng="-5400000"/>
                <a:lnTo>
                  <a:pt x="0" y="31932"/>
                </a:lnTo>
                <a:arcTo wR="3600" hR="3600" stAng="10800000" swAng="-5400000"/>
                <a:lnTo>
                  <a:pt x="18000" y="355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2057400"/>
            <a:ext cx="2362320" cy="3809880"/>
          </a:xfrm>
          <a:custGeom>
            <a:avLst/>
            <a:gdLst>
              <a:gd name="textAreaLeft" fmla="*/ 115200 w 2362320"/>
              <a:gd name="textAreaRight" fmla="*/ 2247120 w 2362320"/>
              <a:gd name="textAreaTop" fmla="*/ 115200 h 3809880"/>
              <a:gd name="textAreaBottom" fmla="*/ 3694680 h 3809880"/>
            </a:gdLst>
            <a:ahLst/>
            <a:rect l="textAreaLeft" t="textAreaTop" r="textAreaRight" b="textAreaBottom"/>
            <a:pathLst>
              <a:path w="21600" h="34834">
                <a:moveTo>
                  <a:pt x="3600" y="0"/>
                </a:moveTo>
                <a:arcTo wR="3600" hR="3600" stAng="16200000" swAng="-5400000"/>
                <a:lnTo>
                  <a:pt x="0" y="31234"/>
                </a:lnTo>
                <a:arcTo wR="3600" hR="3600" stAng="10800000" swAng="-5400000"/>
                <a:lnTo>
                  <a:pt x="18000" y="34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286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2680" y="2286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Hare and the Tortoise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characteristics of narrative nonfi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19320" y="3057480"/>
            <a:ext cx="66294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ach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e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723920" y="914040"/>
            <a:ext cx="3886200" cy="513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approached something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move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oward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approach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4114800" cy="4108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energetic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43600" y="1714680"/>
            <a:ext cx="295128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are energetic, you are filled with energ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5486400" cy="4025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638680" y="1447920"/>
            <a:ext cx="31100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Your pace is how fast you are going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228600"/>
            <a:ext cx="3589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304920"/>
            <a:ext cx="39193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pac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352680" cy="4876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9760" y="-360"/>
            <a:ext cx="152388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capitalize the names of holid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mes of Holid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5943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celebrate Christmas in Decemb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28600" y="762120"/>
          <a:ext cx="8589960" cy="5715000"/>
        </p:xfrm>
        <a:graphic>
          <a:graphicData uri="http://schemas.openxmlformats.org/drawingml/2006/table">
            <a:tbl>
              <a:tblPr/>
              <a:tblGrid>
                <a:gridCol w="1227240"/>
                <a:gridCol w="1225440"/>
                <a:gridCol w="1227240"/>
                <a:gridCol w="1226880"/>
                <a:gridCol w="1227240"/>
                <a:gridCol w="1227240"/>
                <a:gridCol w="122868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hristmas E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hrist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Imagine that you will look for a wild animal.  What is it?  Where will you look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will look for a 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will look in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696080" y="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capitalize the names of holi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248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sentences with Holid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560600" y="0"/>
            <a:ext cx="60228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620120" y="0"/>
            <a:ext cx="1523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e form of e-mail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Constantia"/>
              </a:rPr>
              <a:t>E-mail Messag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Use a computer to get and send e-mai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From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shows your e-mail addres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To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shows the e-mail address of the person the message is going t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Subject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tells what the e-mail is abou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The message can begin with a greeting and end with your na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form of e-mail messag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 an E-m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10280" y="152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form of e-mail messag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228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 an E-m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990720"/>
            <a:ext cx="82296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457200"/>
            <a:ext cx="4800600" cy="63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“We’re Going on a Lion Hun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4419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le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3319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and generate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sound ar /ar/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r-controlled vowel /ar/ 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1219320"/>
            <a:ext cx="3809880" cy="65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has the /ar/ sound at the beginning, put your thumb up say /ar/.  When I say a word that does not have /ar/, put your thumb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et’s do the same thing with the middle and the final s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4419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24080" y="1219320"/>
            <a:ext cx="1447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ar/ ar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339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4648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4648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4648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7180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556272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5562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ar/ ar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121932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148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0400" y="44956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14800" y="3505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3505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449568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556272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8-12-08T04:24:52Z</dcterms:modified>
  <cp:revision>99</cp:revision>
  <dc:subject/>
  <dc:title>Slide 1</dc:title>
</cp:coreProperties>
</file>